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5.jpeg" ContentType="image/jpeg"/>
  <Override PartName="/ppt/media/image23.jpeg" ContentType="image/jpeg"/>
  <Override PartName="/ppt/media/image3.png" ContentType="image/png"/>
  <Override PartName="/ppt/media/image27.png" ContentType="image/png"/>
  <Override PartName="/ppt/media/image13.jpeg" ContentType="image/jpeg"/>
  <Override PartName="/ppt/media/image10.png" ContentType="image/png"/>
  <Override PartName="/ppt/media/image33.pct" ContentType="image/x-pict"/>
  <Override PartName="/ppt/media/image8.png" ContentType="image/png"/>
  <Override PartName="/ppt/media/image11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0.png" ContentType="image/png"/>
  <Override PartName="/ppt/media/image28.png" ContentType="image/png"/>
  <Override PartName="/ppt/media/image34.pct" ContentType="image/x-pict"/>
  <Override PartName="/ppt/media/image7.png" ContentType="image/png"/>
  <Override PartName="/ppt/media/image5.png" ContentType="image/png"/>
  <Override PartName="/ppt/media/image32.pct" ContentType="image/x-pict"/>
  <Override PartName="/ppt/media/image2.pct" ContentType="image/x-pict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874250" cy="7408863"/>
  <p:notesSz cx="740886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A68-C5C7-4C77-BB3E-7D978D4C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659-81D4-457D-8BCC-9B9C4024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6C8-BE36-4CE7-B773-F31C2623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876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876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C2D-A507-48EC-8EB6-26E44427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5A5C-293E-4922-B9AB-F0BD90FF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F1A7-F4AE-4BB6-82CC-9E16E153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6D1D-F6EF-48FF-BCC8-DFA6CD5D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9D2F-7D9B-42CD-AC0A-49756445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60240"/>
            <a:ext cx="83934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CA6-D9AE-48FF-A3E4-E1161380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FC2C-D1E7-4285-8C24-2EC71249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7BD1-5557-4362-8CD2-E0E383EB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48E-AE70-4423-A2DD-978A723D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960" indent="-268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3360" indent="-2160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0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74640" y="6746760"/>
            <a:ext cx="312588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6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E4135335-5156-4734-AF63-D3B2A6939EC0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1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ct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ct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ct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0.png"/><Relationship Id="rId20" Type="http://schemas.openxmlformats.org/officeDocument/2006/relationships/image" Target="../media/image9.png"/><Relationship Id="rId21" Type="http://schemas.openxmlformats.org/officeDocument/2006/relationships/image" Target="../media/image11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9.png"/><Relationship Id="rId26" Type="http://schemas.openxmlformats.org/officeDocument/2006/relationships/image" Target="../media/image10.png"/><Relationship Id="rId27" Type="http://schemas.openxmlformats.org/officeDocument/2006/relationships/image" Target="../media/image9.png"/><Relationship Id="rId28" Type="http://schemas.openxmlformats.org/officeDocument/2006/relationships/image" Target="../media/image10.png"/><Relationship Id="rId29" Type="http://schemas.openxmlformats.org/officeDocument/2006/relationships/image" Target="../media/image9.png"/><Relationship Id="rId30" Type="http://schemas.openxmlformats.org/officeDocument/2006/relationships/image" Target="../media/image10.png"/><Relationship Id="rId31" Type="http://schemas.openxmlformats.org/officeDocument/2006/relationships/image" Target="../media/image11.png"/><Relationship Id="rId3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0"/>
            <a:ext cx="9626040" cy="7277760"/>
            <a:chOff x="76320" y="0"/>
            <a:chExt cx="9626040" cy="7277760"/>
          </a:xfrm>
        </p:grpSpPr>
        <p:pic>
          <p:nvPicPr>
            <p:cNvPr id="4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1480" cy="85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974160" y="124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10360" y="565560"/>
              <a:ext cx="8728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4481640" y="80640"/>
              <a:ext cx="5220720" cy="41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840" y="70315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600" spc="-1" strike="noStrike">
                <a:solidFill>
                  <a:srgbClr val="fe2c02"/>
                </a:solidFill>
                <a:latin typeface="Comic Sans MS"/>
              </a:rPr>
              <a:t>Le duplicazioni genomiche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37360" y="672912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zione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306396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8991360" cy="206064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324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2210040" cy="762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PHP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89320" y="2766600"/>
            <a:ext cx="7716600" cy="1966320"/>
            <a:chOff x="589320" y="2766600"/>
            <a:chExt cx="7716600" cy="1966320"/>
          </a:xfrm>
        </p:grpSpPr>
        <p:sp>
          <p:nvSpPr>
            <p:cNvPr id="331" name=""/>
            <p:cNvSpPr/>
            <p:nvPr/>
          </p:nvSpPr>
          <p:spPr>
            <a:xfrm>
              <a:off x="589320" y="299304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19520" y="40384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05120" y="4343400"/>
              <a:ext cx="449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67040" y="3678840"/>
              <a:ext cx="106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~290 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74880" y="3115440"/>
              <a:ext cx="87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330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61080" y="3107520"/>
              <a:ext cx="87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330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34440" y="314532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45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91880" y="387720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45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8800" y="3494160"/>
              <a:ext cx="277920" cy="220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06520" y="3494160"/>
              <a:ext cx="371520" cy="220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29000" y="3500280"/>
              <a:ext cx="2133720" cy="2448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PH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58080" y="3494160"/>
              <a:ext cx="447840" cy="263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7680240" y="3294000"/>
              <a:ext cx="189000" cy="752040"/>
              <a:chOff x="7680240" y="3294000"/>
              <a:chExt cx="189000" cy="752040"/>
            </a:xfrm>
          </p:grpSpPr>
          <p:sp>
            <p:nvSpPr>
              <p:cNvPr id="344" name=""/>
              <p:cNvSpPr/>
              <p:nvPr/>
            </p:nvSpPr>
            <p:spPr>
              <a:xfrm>
                <a:off x="7680240" y="3329640"/>
                <a:ext cx="9468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774200" y="3294000"/>
                <a:ext cx="9504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990720" y="3432240"/>
              <a:ext cx="215640" cy="3571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19320" y="3305160"/>
              <a:ext cx="188280" cy="752040"/>
              <a:chOff x="1219320" y="3305160"/>
              <a:chExt cx="188280" cy="752040"/>
            </a:xfrm>
          </p:grpSpPr>
          <p:sp>
            <p:nvSpPr>
              <p:cNvPr id="348" name=""/>
              <p:cNvSpPr/>
              <p:nvPr/>
            </p:nvSpPr>
            <p:spPr>
              <a:xfrm>
                <a:off x="1219320" y="3340800"/>
                <a:ext cx="9468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12920" y="3305160"/>
                <a:ext cx="9468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76520" y="3494160"/>
              <a:ext cx="1371600" cy="374400"/>
            </a:xfrm>
            <a:prstGeom prst="rightArrow">
              <a:avLst>
                <a:gd name="adj1" fmla="val 50000"/>
                <a:gd name="adj2" fmla="val 9158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71800" y="3557520"/>
              <a:ext cx="533520" cy="249480"/>
            </a:xfrm>
            <a:prstGeom prst="rightArrow">
              <a:avLst>
                <a:gd name="adj1" fmla="val 50000"/>
                <a:gd name="adj2" fmla="val 5346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95960" y="3525840"/>
              <a:ext cx="1333440" cy="374760"/>
            </a:xfrm>
            <a:prstGeom prst="leftArrow">
              <a:avLst>
                <a:gd name="adj1" fmla="val 50000"/>
                <a:gd name="adj2" fmla="val 8895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1320" y="3608280"/>
              <a:ext cx="533160" cy="250920"/>
            </a:xfrm>
            <a:prstGeom prst="rightArrow">
              <a:avLst>
                <a:gd name="adj1" fmla="val 50000"/>
                <a:gd name="adj2" fmla="val 5312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37320" y="3500280"/>
              <a:ext cx="1012680" cy="263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67080" y="34322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13200" y="4364640"/>
              <a:ext cx="42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versione benigna: 1,3% omozigo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45840" y="2766600"/>
              <a:ext cx="78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2q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60720" y="4860000"/>
            <a:ext cx="8581680" cy="2082600"/>
            <a:chOff x="360720" y="4860000"/>
            <a:chExt cx="8581680" cy="2082600"/>
          </a:xfrm>
        </p:grpSpPr>
        <p:sp>
          <p:nvSpPr>
            <p:cNvPr id="359" name=""/>
            <p:cNvSpPr/>
            <p:nvPr/>
          </p:nvSpPr>
          <p:spPr>
            <a:xfrm>
              <a:off x="7694640" y="53553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73400" y="5715000"/>
              <a:ext cx="1752480" cy="228600"/>
            </a:xfrm>
            <a:prstGeom prst="rightArrow">
              <a:avLst>
                <a:gd name="adj1" fmla="val 50000"/>
                <a:gd name="adj2" fmla="val 191654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25880" y="5753160"/>
              <a:ext cx="762120" cy="152280"/>
            </a:xfrm>
            <a:prstGeom prst="rightArrow">
              <a:avLst>
                <a:gd name="adj1" fmla="val 50000"/>
                <a:gd name="adj2" fmla="val 125118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25880" y="5486400"/>
              <a:ext cx="762120" cy="152280"/>
            </a:xfrm>
            <a:prstGeom prst="rightArrow">
              <a:avLst>
                <a:gd name="adj1" fmla="val 50000"/>
                <a:gd name="adj2" fmla="val 125118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75040" y="5486400"/>
              <a:ext cx="175284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4950000">
              <a:off x="4348080" y="4668120"/>
              <a:ext cx="916200" cy="1485720"/>
            </a:xfrm>
            <a:prstGeom prst="blockArc">
              <a:avLst>
                <a:gd name="adj1" fmla="val 9922134"/>
                <a:gd name="adj2" fmla="val 877866"/>
                <a:gd name="adj3" fmla="val 522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25880" y="4876920"/>
              <a:ext cx="609480" cy="685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885" stAng="10800000" swAng="5400000"/>
                  <a:lnTo>
                    <a:pt x="16481" y="4275"/>
                  </a:lnTo>
                  <a:lnTo>
                    <a:pt x="16481" y="0"/>
                  </a:lnTo>
                  <a:lnTo>
                    <a:pt x="21600" y="6079"/>
                  </a:lnTo>
                  <a:lnTo>
                    <a:pt x="16481" y="12158"/>
                  </a:lnTo>
                  <a:lnTo>
                    <a:pt x="16481" y="7883"/>
                  </a:lnTo>
                  <a:lnTo>
                    <a:pt x="12427" y="7883"/>
                  </a:lnTo>
                  <a:arcTo wR="8819" hR="4277" stAng="16200000" swAng="-5400000"/>
                  <a:lnTo>
                    <a:pt x="360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54480" y="5562720"/>
              <a:ext cx="228600" cy="228600"/>
            </a:xfrm>
            <a:prstGeom prst="flowChartCollat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0720" y="56599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70080" y="5791320"/>
              <a:ext cx="99036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02320" y="5511960"/>
              <a:ext cx="99072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456760" y="64983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35160" y="6629400"/>
              <a:ext cx="1752840" cy="228600"/>
            </a:xfrm>
            <a:prstGeom prst="rightArrow">
              <a:avLst>
                <a:gd name="adj1" fmla="val 50000"/>
                <a:gd name="adj2" fmla="val 19169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88000" y="6667560"/>
              <a:ext cx="761760" cy="152280"/>
            </a:xfrm>
            <a:prstGeom prst="rightArrow">
              <a:avLst>
                <a:gd name="adj1" fmla="val 50000"/>
                <a:gd name="adj2" fmla="val 12505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37160" y="6667560"/>
              <a:ext cx="175248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22840" y="65743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31840" y="6705720"/>
              <a:ext cx="99072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64440" y="6692760"/>
              <a:ext cx="990720" cy="763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7543800" y="5334120"/>
              <a:ext cx="151920" cy="380880"/>
              <a:chOff x="7543800" y="5334120"/>
              <a:chExt cx="151920" cy="380880"/>
            </a:xfrm>
          </p:grpSpPr>
          <p:sp>
            <p:nvSpPr>
              <p:cNvPr id="378" name=""/>
              <p:cNvSpPr/>
              <p:nvPr/>
            </p:nvSpPr>
            <p:spPr>
              <a:xfrm>
                <a:off x="7543800" y="5352120"/>
                <a:ext cx="76320" cy="3628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619400" y="5334120"/>
                <a:ext cx="76320" cy="3628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1066680" y="5638680"/>
              <a:ext cx="152640" cy="381240"/>
              <a:chOff x="1066680" y="5638680"/>
              <a:chExt cx="152640" cy="381240"/>
            </a:xfrm>
          </p:grpSpPr>
          <p:sp>
            <p:nvSpPr>
              <p:cNvPr id="381" name=""/>
              <p:cNvSpPr/>
              <p:nvPr/>
            </p:nvSpPr>
            <p:spPr>
              <a:xfrm>
                <a:off x="1066680" y="5656680"/>
                <a:ext cx="76320" cy="3632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142640" y="5638680"/>
                <a:ext cx="76680" cy="3632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305920" y="6477120"/>
              <a:ext cx="151920" cy="380880"/>
              <a:chOff x="8305920" y="6477120"/>
              <a:chExt cx="151920" cy="380880"/>
            </a:xfrm>
          </p:grpSpPr>
          <p:sp>
            <p:nvSpPr>
              <p:cNvPr id="384" name=""/>
              <p:cNvSpPr/>
              <p:nvPr/>
            </p:nvSpPr>
            <p:spPr>
              <a:xfrm>
                <a:off x="8305920" y="6495120"/>
                <a:ext cx="76320" cy="3628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381520" y="6477120"/>
                <a:ext cx="76320" cy="3628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1828800" y="6553080"/>
              <a:ext cx="151920" cy="381240"/>
              <a:chOff x="1828800" y="6553080"/>
              <a:chExt cx="151920" cy="381240"/>
            </a:xfrm>
          </p:grpSpPr>
          <p:sp>
            <p:nvSpPr>
              <p:cNvPr id="387" name=""/>
              <p:cNvSpPr/>
              <p:nvPr/>
            </p:nvSpPr>
            <p:spPr>
              <a:xfrm>
                <a:off x="1828800" y="6571080"/>
                <a:ext cx="76320" cy="3632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04400" y="6553080"/>
                <a:ext cx="76320" cy="3632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 rot="5500200">
              <a:off x="5028480" y="6019560"/>
              <a:ext cx="609840" cy="304920"/>
            </a:xfrm>
            <a:custGeom>
              <a:avLst/>
              <a:gdLst>
                <a:gd name="textAreaLeft" fmla="*/ 95040 w 609840"/>
                <a:gd name="textAreaRight" fmla="*/ 533880 w 60984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0080" y="5105520"/>
              <a:ext cx="91440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PH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09120" y="1143000"/>
            <a:ext cx="908496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anter syndrome type II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1p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aucher diseas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q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m. juv. nephronophthisi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q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scioscapulohumeral muscular dystrophy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q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pinal muscular atrophy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q1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g adrenal hyperplasia (21 hydroxylase def.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6p2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lucocorticoid-remediable aldosteronism (GRA)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8q2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eta-thalassemi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p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fa-thalassemi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p1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lycystic kidney disease 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p1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harcot-Marie-Tooth (CMT1A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p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r. neur. with liability to pressure palsies (HNPP)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p1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eurofibromatosis type 1 (NFl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q1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ituitary dwarfism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q2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P2D6 pharmacogenetic trait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2q1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chthyosi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p22.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d-green color blindnes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continentia pigment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mophilia 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mery-Dreifuss musc. dystr.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Xq28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unter syndrom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aratteri mendelian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6320" y="0"/>
            <a:ext cx="9600840" cy="7301880"/>
            <a:chOff x="76320" y="0"/>
            <a:chExt cx="9600840" cy="7301880"/>
          </a:xfrm>
        </p:grpSpPr>
        <p:pic>
          <p:nvPicPr>
            <p:cNvPr id="39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9320" cy="85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968760" y="1245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8560" y="567720"/>
              <a:ext cx="8706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4470120" y="81000"/>
              <a:ext cx="5207040" cy="41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2760" y="705564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228600" y="6324480"/>
            <a:ext cx="8077320" cy="228600"/>
          </a:xfrm>
          <a:prstGeom prst="rect">
            <a:avLst/>
          </a:prstGeom>
          <a:solidFill>
            <a:srgbClr val="ff00ff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40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8931600" y="25614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203400" y="1676520"/>
            <a:ext cx="8821080" cy="1761840"/>
            <a:chOff x="203400" y="1676520"/>
            <a:chExt cx="8821080" cy="1761840"/>
          </a:xfrm>
        </p:grpSpPr>
        <p:sp>
          <p:nvSpPr>
            <p:cNvPr id="408" name=""/>
            <p:cNvSpPr/>
            <p:nvPr/>
          </p:nvSpPr>
          <p:spPr>
            <a:xfrm flipH="1">
              <a:off x="3776400" y="1968480"/>
              <a:ext cx="1020600" cy="4651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62400" y="1968480"/>
              <a:ext cx="3498840" cy="4651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975040" y="2631960"/>
              <a:ext cx="65556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30600" y="2631960"/>
              <a:ext cx="5030640" cy="200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3200" y="2631960"/>
              <a:ext cx="146160" cy="200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92760" y="2631960"/>
              <a:ext cx="146160" cy="200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40640" y="2631960"/>
              <a:ext cx="146160" cy="200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491680" y="2631960"/>
              <a:ext cx="144360" cy="200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12000" y="2631960"/>
              <a:ext cx="217440" cy="200160"/>
            </a:xfrm>
            <a:custGeom>
              <a:avLst/>
              <a:gdLst>
                <a:gd name="textAreaLeft" fmla="*/ 49680 w 217440"/>
                <a:gd name="textAreaRight" fmla="*/ 167760 w 217440"/>
                <a:gd name="textAreaTop" fmla="*/ 45720 h 200160"/>
                <a:gd name="textAreaBottom" fmla="*/ 154440 h 2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dff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56360" y="2300400"/>
              <a:ext cx="1459080" cy="133200"/>
            </a:xfrm>
            <a:prstGeom prst="rightArrow">
              <a:avLst>
                <a:gd name="adj1" fmla="val 50000"/>
                <a:gd name="adj2" fmla="val 27385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83280" y="1835280"/>
              <a:ext cx="59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8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3563280" y="3070080"/>
              <a:ext cx="5303520" cy="368280"/>
              <a:chOff x="3563280" y="3070080"/>
              <a:chExt cx="5303520" cy="368280"/>
            </a:xfrm>
          </p:grpSpPr>
          <p:sp>
            <p:nvSpPr>
              <p:cNvPr id="420" name=""/>
              <p:cNvSpPr/>
              <p:nvPr/>
            </p:nvSpPr>
            <p:spPr>
              <a:xfrm>
                <a:off x="3563280" y="30700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75320" y="3070080"/>
                <a:ext cx="50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2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50200" y="3070080"/>
                <a:ext cx="50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3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424000" y="307008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2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4724280" y="1676520"/>
              <a:ext cx="6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8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30600" y="2944800"/>
              <a:ext cx="3425760" cy="331920"/>
            </a:xfrm>
            <a:prstGeom prst="leftArrow">
              <a:avLst>
                <a:gd name="adj1" fmla="val 56667"/>
                <a:gd name="adj2" fmla="val 14459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6181560" y="2367000"/>
              <a:ext cx="874800" cy="33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54880" y="21016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p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3400" y="256140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2960" y="2631960"/>
              <a:ext cx="211284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734320" y="2300400"/>
              <a:ext cx="290160" cy="663120"/>
              <a:chOff x="8734320" y="2300400"/>
              <a:chExt cx="290160" cy="663120"/>
            </a:xfrm>
          </p:grpSpPr>
          <p:sp>
            <p:nvSpPr>
              <p:cNvPr id="431" name=""/>
              <p:cNvSpPr/>
              <p:nvPr/>
            </p:nvSpPr>
            <p:spPr>
              <a:xfrm>
                <a:off x="8734320" y="2331720"/>
                <a:ext cx="145440" cy="6318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878680" y="2300400"/>
                <a:ext cx="145800" cy="6318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755800" y="2300400"/>
              <a:ext cx="291960" cy="663120"/>
              <a:chOff x="2755800" y="2300400"/>
              <a:chExt cx="291960" cy="663120"/>
            </a:xfrm>
          </p:grpSpPr>
          <p:sp>
            <p:nvSpPr>
              <p:cNvPr id="434" name=""/>
              <p:cNvSpPr/>
              <p:nvPr/>
            </p:nvSpPr>
            <p:spPr>
              <a:xfrm>
                <a:off x="2755800" y="2331720"/>
                <a:ext cx="146520" cy="6318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900880" y="2300400"/>
                <a:ext cx="146880" cy="6318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714240" y="2631960"/>
              <a:ext cx="365400" cy="200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98520" y="2631960"/>
              <a:ext cx="363600" cy="200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240" y="2300400"/>
              <a:ext cx="584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71600" y="2300400"/>
              <a:ext cx="582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180880" y="3581280"/>
            <a:ext cx="6939360" cy="1447920"/>
            <a:chOff x="2180880" y="3581280"/>
            <a:chExt cx="6939360" cy="1447920"/>
          </a:xfrm>
        </p:grpSpPr>
        <p:grpSp>
          <p:nvGrpSpPr>
            <p:cNvPr id="441" name=""/>
            <p:cNvGrpSpPr/>
            <p:nvPr/>
          </p:nvGrpSpPr>
          <p:grpSpPr>
            <a:xfrm>
              <a:off x="3024000" y="3581280"/>
              <a:ext cx="304560" cy="761760"/>
              <a:chOff x="3024000" y="3581280"/>
              <a:chExt cx="304560" cy="761760"/>
            </a:xfrm>
          </p:grpSpPr>
          <p:sp>
            <p:nvSpPr>
              <p:cNvPr id="442" name=""/>
              <p:cNvSpPr/>
              <p:nvPr/>
            </p:nvSpPr>
            <p:spPr>
              <a:xfrm>
                <a:off x="3024000" y="3617280"/>
                <a:ext cx="152640" cy="7257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75560" y="3581280"/>
                <a:ext cx="153000" cy="7257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3176640" y="3959280"/>
              <a:ext cx="685800" cy="168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62440" y="3959280"/>
              <a:ext cx="5257800" cy="1681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75040" y="3959280"/>
              <a:ext cx="152280" cy="16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62840" y="3959280"/>
              <a:ext cx="152280" cy="16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053200" y="3959280"/>
              <a:ext cx="152640" cy="16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942400" y="3959280"/>
              <a:ext cx="152280" cy="16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91440" y="3959280"/>
              <a:ext cx="228600" cy="16812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38160 h 168120"/>
                <a:gd name="textAreaBottom" fmla="*/ 129960 h 1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dff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43720" y="3733920"/>
              <a:ext cx="1523880" cy="112680"/>
            </a:xfrm>
            <a:prstGeom prst="rightArrow">
              <a:avLst>
                <a:gd name="adj1" fmla="val 50000"/>
                <a:gd name="adj2" fmla="val 338099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62440" y="4184640"/>
              <a:ext cx="3581280" cy="281160"/>
            </a:xfrm>
            <a:prstGeom prst="leftArrow">
              <a:avLst>
                <a:gd name="adj1" fmla="val 56667"/>
                <a:gd name="adj2" fmla="val 178443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6239600">
              <a:off x="2344680" y="3803400"/>
              <a:ext cx="900000" cy="1217520"/>
            </a:xfrm>
            <a:prstGeom prst="blockArc">
              <a:avLst>
                <a:gd name="adj1" fmla="val 9722955"/>
                <a:gd name="adj2" fmla="val 1077045"/>
                <a:gd name="adj3" fmla="val 2072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17640" y="4680000"/>
              <a:ext cx="6400800" cy="18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977240" y="4691160"/>
              <a:ext cx="380880" cy="169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62440" y="4691160"/>
              <a:ext cx="3504960" cy="169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24400" y="5029200"/>
              <a:ext cx="609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48640" y="5029200"/>
              <a:ext cx="609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8800" y="4343400"/>
              <a:ext cx="304920" cy="304920"/>
            </a:xfrm>
            <a:prstGeom prst="flowChartCollat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27160" y="5180760"/>
            <a:ext cx="9622800" cy="2015280"/>
            <a:chOff x="227160" y="5180760"/>
            <a:chExt cx="9622800" cy="2015280"/>
          </a:xfrm>
        </p:grpSpPr>
        <p:sp>
          <p:nvSpPr>
            <p:cNvPr id="461" name=""/>
            <p:cNvSpPr/>
            <p:nvPr/>
          </p:nvSpPr>
          <p:spPr>
            <a:xfrm>
              <a:off x="7007040" y="5592600"/>
              <a:ext cx="59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8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66880" y="5380200"/>
              <a:ext cx="6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8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27160" y="56599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1200" y="6413400"/>
              <a:ext cx="6858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33320" y="6413400"/>
              <a:ext cx="46224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25960" y="6400800"/>
              <a:ext cx="2113200" cy="200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39160" y="6389640"/>
              <a:ext cx="1827000" cy="1634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945560" y="6389640"/>
              <a:ext cx="145800" cy="200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796240" y="6389640"/>
              <a:ext cx="144720" cy="200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16920" y="6389640"/>
              <a:ext cx="217440" cy="200160"/>
            </a:xfrm>
            <a:custGeom>
              <a:avLst/>
              <a:gdLst>
                <a:gd name="textAreaLeft" fmla="*/ 49680 w 217440"/>
                <a:gd name="textAreaRight" fmla="*/ 167760 w 217440"/>
                <a:gd name="textAreaTop" fmla="*/ 45720 h 200160"/>
                <a:gd name="textAreaBottom" fmla="*/ 154440 h 2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dff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61280" y="6058080"/>
              <a:ext cx="1458720" cy="133200"/>
            </a:xfrm>
            <a:prstGeom prst="rightArrow">
              <a:avLst>
                <a:gd name="adj1" fmla="val 50000"/>
                <a:gd name="adj2" fmla="val 273784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39680" y="57913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58680" y="579132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756200" y="682776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728920" y="68277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6486480" y="6124320"/>
              <a:ext cx="874800" cy="33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59800" y="58593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p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236520" y="63187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9039240" y="6058080"/>
              <a:ext cx="290160" cy="663120"/>
              <a:chOff x="9039240" y="6058080"/>
              <a:chExt cx="290160" cy="663120"/>
            </a:xfrm>
          </p:grpSpPr>
          <p:sp>
            <p:nvSpPr>
              <p:cNvPr id="480" name=""/>
              <p:cNvSpPr/>
              <p:nvPr/>
            </p:nvSpPr>
            <p:spPr>
              <a:xfrm>
                <a:off x="9039240" y="6089400"/>
                <a:ext cx="145440" cy="6318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9183600" y="6058080"/>
                <a:ext cx="145800" cy="6318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4776840" y="6019920"/>
              <a:ext cx="291600" cy="663120"/>
              <a:chOff x="4776840" y="6019920"/>
              <a:chExt cx="291600" cy="663120"/>
            </a:xfrm>
          </p:grpSpPr>
          <p:sp>
            <p:nvSpPr>
              <p:cNvPr id="483" name=""/>
              <p:cNvSpPr/>
              <p:nvPr/>
            </p:nvSpPr>
            <p:spPr>
              <a:xfrm>
                <a:off x="4776840" y="6051240"/>
                <a:ext cx="146160" cy="6318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921920" y="6019920"/>
                <a:ext cx="146520" cy="6318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939960" y="6058080"/>
              <a:ext cx="27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47920" y="6058080"/>
              <a:ext cx="32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41280" y="6400800"/>
              <a:ext cx="46224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6389640"/>
              <a:ext cx="2113200" cy="2397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52480" y="6400800"/>
              <a:ext cx="146160" cy="200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33920" y="6400800"/>
              <a:ext cx="228600" cy="225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962520" y="6400800"/>
              <a:ext cx="66204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8280" y="605808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00200" y="6781680"/>
              <a:ext cx="2362320" cy="228600"/>
            </a:xfrm>
            <a:prstGeom prst="rightArrow">
              <a:avLst>
                <a:gd name="adj1" fmla="val 50000"/>
                <a:gd name="adj2" fmla="val 258346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5383800">
              <a:off x="4798800" y="5371920"/>
              <a:ext cx="685800" cy="30456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5" name="" descr=""/>
          <p:cNvPicPr/>
          <p:nvPr/>
        </p:nvPicPr>
        <p:blipFill>
          <a:blip r:embed="rId11"/>
          <a:stretch/>
        </p:blipFill>
        <p:spPr>
          <a:xfrm>
            <a:off x="304920" y="838080"/>
            <a:ext cx="4519440" cy="6606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876920" y="7621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nversione in Xq28 :Emofili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609120" y="1143000"/>
            <a:ext cx="908496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anter syndrome type II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1p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aucher diseas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q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m. juv. nephronophthisi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q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scioscapulohumeral muscular dystrophy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q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pinal muscular atrophy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q1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g adrenal hyperplasia (21 hydroxylase def.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6p2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lucocorticoid-remediable aldosteronism (GRA)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8q2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eta-thalassemi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p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fa-thalassemi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p1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lycystic kidney disease 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p1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harcot-Marie-Tooth (CMT1A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p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r. neur. with liability to pressure palsies (HNPP)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p1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eurofibromatosis type 1 (NFl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q1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ituitary dwarfism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q2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P2D6 pharmacogenetic trait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2q1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chthyosi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p22.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d-green color blindnes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continentia pigment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mophilia 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mery-Dreifuss musc. dystr.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Xq28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unter syndrom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aratteri mendelian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6320" y="0"/>
            <a:ext cx="9600840" cy="7301880"/>
            <a:chOff x="76320" y="0"/>
            <a:chExt cx="9600840" cy="7301880"/>
          </a:xfrm>
        </p:grpSpPr>
        <p:pic>
          <p:nvPicPr>
            <p:cNvPr id="50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9320" cy="85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968760" y="1245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08560" y="567720"/>
              <a:ext cx="8706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>
              <a:off x="4470120" y="81000"/>
              <a:ext cx="5207040" cy="41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2760" y="705564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228600" y="6591240"/>
            <a:ext cx="8077320" cy="228600"/>
          </a:xfrm>
          <a:prstGeom prst="rect">
            <a:avLst/>
          </a:prstGeom>
          <a:solidFill>
            <a:srgbClr val="ff00ff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50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85024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nversione in Xq28: distrofia di Emery-Dreifu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33520" y="1981080"/>
            <a:ext cx="7877880" cy="1761120"/>
            <a:chOff x="533520" y="1981080"/>
            <a:chExt cx="7877880" cy="1761120"/>
          </a:xfrm>
        </p:grpSpPr>
        <p:sp>
          <p:nvSpPr>
            <p:cNvPr id="514" name=""/>
            <p:cNvSpPr/>
            <p:nvPr/>
          </p:nvSpPr>
          <p:spPr>
            <a:xfrm>
              <a:off x="741960" y="24739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70720" y="25358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1.3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50840" y="250560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1.3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85480" y="337392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48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447920" y="2773440"/>
              <a:ext cx="188280" cy="752040"/>
              <a:chOff x="1447920" y="2773440"/>
              <a:chExt cx="188280" cy="752040"/>
            </a:xfrm>
          </p:grpSpPr>
          <p:sp>
            <p:nvSpPr>
              <p:cNvPr id="519" name=""/>
              <p:cNvSpPr/>
              <p:nvPr/>
            </p:nvSpPr>
            <p:spPr>
              <a:xfrm>
                <a:off x="1447920" y="2809080"/>
                <a:ext cx="9468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541520" y="2773440"/>
                <a:ext cx="9468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3352680" y="2316240"/>
              <a:ext cx="1524240" cy="731880"/>
            </a:xfrm>
            <a:prstGeom prst="flowChartMerg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ilami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6K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00600" y="1981080"/>
              <a:ext cx="1523880" cy="990720"/>
            </a:xfrm>
            <a:prstGeom prst="flowChartMerge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mer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2K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533520" y="2505600"/>
              <a:ext cx="7877880" cy="923400"/>
              <a:chOff x="533520" y="2505600"/>
              <a:chExt cx="7877880" cy="923400"/>
            </a:xfrm>
          </p:grpSpPr>
          <p:sp>
            <p:nvSpPr>
              <p:cNvPr id="524" name=""/>
              <p:cNvSpPr/>
              <p:nvPr/>
            </p:nvSpPr>
            <p:spPr>
              <a:xfrm>
                <a:off x="533520" y="2989080"/>
                <a:ext cx="761760" cy="2415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048120" y="3429000"/>
                <a:ext cx="274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6" name=""/>
              <p:cNvGrpSpPr/>
              <p:nvPr/>
            </p:nvGrpSpPr>
            <p:grpSpPr>
              <a:xfrm>
                <a:off x="7892280" y="2505600"/>
                <a:ext cx="519120" cy="721800"/>
                <a:chOff x="7892280" y="2505600"/>
                <a:chExt cx="519120" cy="72180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7892280" y="2505600"/>
                  <a:ext cx="51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Te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7934400" y="3006720"/>
                  <a:ext cx="277920" cy="22068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9" name=""/>
              <p:cNvSpPr/>
              <p:nvPr/>
            </p:nvSpPr>
            <p:spPr>
              <a:xfrm>
                <a:off x="1635120" y="3006720"/>
                <a:ext cx="371520" cy="2206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276720" y="2971800"/>
                <a:ext cx="2133360" cy="2444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1" name=""/>
              <p:cNvGrpSpPr/>
              <p:nvPr/>
            </p:nvGrpSpPr>
            <p:grpSpPr>
              <a:xfrm>
                <a:off x="7696080" y="2666880"/>
                <a:ext cx="189000" cy="752040"/>
                <a:chOff x="7696080" y="2666880"/>
                <a:chExt cx="189000" cy="75204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7696080" y="2702520"/>
                  <a:ext cx="94680" cy="71640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7790040" y="2666880"/>
                  <a:ext cx="95040" cy="71640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4" name=""/>
              <p:cNvSpPr/>
              <p:nvPr/>
            </p:nvSpPr>
            <p:spPr>
              <a:xfrm>
                <a:off x="1219320" y="2944800"/>
                <a:ext cx="215640" cy="3571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905120" y="3006720"/>
                <a:ext cx="1371600" cy="374760"/>
              </a:xfrm>
              <a:prstGeom prst="rightArrow">
                <a:avLst>
                  <a:gd name="adj1" fmla="val 50000"/>
                  <a:gd name="adj2" fmla="val 91499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283360" y="3048120"/>
                <a:ext cx="533160" cy="258480"/>
              </a:xfrm>
              <a:prstGeom prst="rightArrow">
                <a:avLst>
                  <a:gd name="adj1" fmla="val 50000"/>
                  <a:gd name="adj2" fmla="val 51567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008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29480" y="2971800"/>
                <a:ext cx="1333440" cy="374760"/>
              </a:xfrm>
              <a:prstGeom prst="leftArrow">
                <a:avLst>
                  <a:gd name="adj1" fmla="val 50000"/>
                  <a:gd name="adj2" fmla="val 88953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201080" y="2971800"/>
                <a:ext cx="447480" cy="263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657600" y="3002040"/>
                <a:ext cx="914400" cy="228600"/>
              </a:xfrm>
              <a:prstGeom prst="leftArrow">
                <a:avLst>
                  <a:gd name="adj1" fmla="val 50000"/>
                  <a:gd name="adj2" fmla="val 10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520560" y="3861360"/>
            <a:ext cx="7877880" cy="1197720"/>
            <a:chOff x="520560" y="3861360"/>
            <a:chExt cx="7877880" cy="1197720"/>
          </a:xfrm>
        </p:grpSpPr>
        <p:sp>
          <p:nvSpPr>
            <p:cNvPr id="541" name=""/>
            <p:cNvSpPr/>
            <p:nvPr/>
          </p:nvSpPr>
          <p:spPr>
            <a:xfrm>
              <a:off x="3263760" y="4525920"/>
              <a:ext cx="2133720" cy="2444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81480" y="4602240"/>
              <a:ext cx="685800" cy="228600"/>
            </a:xfrm>
            <a:prstGeom prst="leftArrow">
              <a:avLst>
                <a:gd name="adj1" fmla="val 50000"/>
                <a:gd name="adj2" fmla="val 7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923560" y="3861360"/>
              <a:ext cx="322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versione in ~ 20% delle 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20560" y="4543560"/>
              <a:ext cx="762120" cy="2412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7879320" y="4059720"/>
              <a:ext cx="519120" cy="721800"/>
              <a:chOff x="7879320" y="4059720"/>
              <a:chExt cx="519120" cy="721800"/>
            </a:xfrm>
          </p:grpSpPr>
          <p:sp>
            <p:nvSpPr>
              <p:cNvPr id="546" name=""/>
              <p:cNvSpPr/>
              <p:nvPr/>
            </p:nvSpPr>
            <p:spPr>
              <a:xfrm>
                <a:off x="7879320" y="4059720"/>
                <a:ext cx="51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921440" y="4560840"/>
                <a:ext cx="277560" cy="2206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1622520" y="4560840"/>
              <a:ext cx="371520" cy="220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7683480" y="4221000"/>
              <a:ext cx="189000" cy="752400"/>
              <a:chOff x="7683480" y="4221000"/>
              <a:chExt cx="189000" cy="752400"/>
            </a:xfrm>
          </p:grpSpPr>
          <p:sp>
            <p:nvSpPr>
              <p:cNvPr id="550" name=""/>
              <p:cNvSpPr/>
              <p:nvPr/>
            </p:nvSpPr>
            <p:spPr>
              <a:xfrm>
                <a:off x="7683480" y="4256640"/>
                <a:ext cx="94680" cy="7167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777440" y="4221000"/>
                <a:ext cx="95040" cy="7167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1206360" y="4498920"/>
              <a:ext cx="216000" cy="3571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92160" y="4560840"/>
              <a:ext cx="1371600" cy="374760"/>
            </a:xfrm>
            <a:prstGeom prst="rightArrow">
              <a:avLst>
                <a:gd name="adj1" fmla="val 50000"/>
                <a:gd name="adj2" fmla="val 9149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16520" y="4525920"/>
              <a:ext cx="1333440" cy="374760"/>
            </a:xfrm>
            <a:prstGeom prst="leftArrow">
              <a:avLst>
                <a:gd name="adj1" fmla="val 50000"/>
                <a:gd name="adj2" fmla="val 8895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188120" y="4525920"/>
              <a:ext cx="447840" cy="263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1447920" y="4307040"/>
              <a:ext cx="188280" cy="752040"/>
              <a:chOff x="1447920" y="4307040"/>
              <a:chExt cx="188280" cy="752040"/>
            </a:xfrm>
          </p:grpSpPr>
          <p:sp>
            <p:nvSpPr>
              <p:cNvPr id="557" name=""/>
              <p:cNvSpPr/>
              <p:nvPr/>
            </p:nvSpPr>
            <p:spPr>
              <a:xfrm>
                <a:off x="1447920" y="4342680"/>
                <a:ext cx="9468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541520" y="4307040"/>
                <a:ext cx="9468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3733920" y="4525920"/>
              <a:ext cx="914400" cy="228600"/>
            </a:xfrm>
            <a:prstGeom prst="rightArrow">
              <a:avLst>
                <a:gd name="adj1" fmla="val 50000"/>
                <a:gd name="adj2" fmla="val 100000"/>
              </a:avLst>
            </a:prstGeom>
            <a:solidFill>
              <a:srgbClr val="fcff1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1066680" y="5867280"/>
            <a:ext cx="7467840" cy="1238400"/>
            <a:chOff x="1066680" y="5867280"/>
            <a:chExt cx="7467840" cy="1238400"/>
          </a:xfrm>
        </p:grpSpPr>
        <p:pic>
          <p:nvPicPr>
            <p:cNvPr id="561" name="" descr=""/>
            <p:cNvPicPr/>
            <p:nvPr/>
          </p:nvPicPr>
          <p:blipFill>
            <a:blip r:embed="rId4"/>
            <a:stretch/>
          </p:blipFill>
          <p:spPr>
            <a:xfrm>
              <a:off x="1066680" y="5867280"/>
              <a:ext cx="7467840" cy="12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" descr=""/>
            <p:cNvPicPr/>
            <p:nvPr/>
          </p:nvPicPr>
          <p:blipFill>
            <a:blip r:embed="rId5"/>
            <a:stretch/>
          </p:blipFill>
          <p:spPr>
            <a:xfrm>
              <a:off x="1143000" y="6615000"/>
              <a:ext cx="4343400" cy="2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609120" y="1143000"/>
            <a:ext cx="908496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anter syndrome type II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1p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aucher diseas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q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m. juv. nephronophthisi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q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scioscapulohumeral muscular dystrophy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q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pinal muscular atrophy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q1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g adrenal hyperplasia (21 hydroxylase def.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6p2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lucocorticoid-remediable aldosteronism (GRA)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8q2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eta-thalassemi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p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fa-thalassemi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p1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lycystic kidney disease 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p1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harcot-Marie-Tooth (CMT1A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p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r. neur. with liability to pressure palsies (HNPP)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p1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eurofibromatosis type 1 (NFl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q1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ituitary dwarfism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q2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P2D6 pharmacogenetic trait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2q1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chthyosi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p22.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d-green color blindnes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continentia pigment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mophilia 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mery-Dreifuss musc. dystr.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Xq28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unter syndrom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aratteri mendelian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6320" y="0"/>
            <a:ext cx="9600840" cy="7301880"/>
            <a:chOff x="76320" y="0"/>
            <a:chExt cx="9600840" cy="7301880"/>
          </a:xfrm>
        </p:grpSpPr>
        <p:pic>
          <p:nvPicPr>
            <p:cNvPr id="56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9320" cy="85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968760" y="1245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08560" y="567720"/>
              <a:ext cx="8706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4470120" y="81000"/>
              <a:ext cx="5207040" cy="41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2760" y="705564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28600" y="2362320"/>
            <a:ext cx="8077320" cy="4724280"/>
            <a:chOff x="228600" y="2362320"/>
            <a:chExt cx="8077320" cy="4724280"/>
          </a:xfrm>
        </p:grpSpPr>
        <p:sp>
          <p:nvSpPr>
            <p:cNvPr id="572" name=""/>
            <p:cNvSpPr/>
            <p:nvPr/>
          </p:nvSpPr>
          <p:spPr>
            <a:xfrm>
              <a:off x="228600" y="6858000"/>
              <a:ext cx="8077320" cy="228600"/>
            </a:xfrm>
            <a:prstGeom prst="rect">
              <a:avLst/>
            </a:prstGeom>
            <a:solidFill>
              <a:srgbClr val="ff00ff">
                <a:alpha val="2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8600" y="2362320"/>
              <a:ext cx="8077320" cy="228600"/>
            </a:xfrm>
            <a:prstGeom prst="rect">
              <a:avLst/>
            </a:prstGeom>
            <a:solidFill>
              <a:srgbClr val="ff00ff">
                <a:alpha val="2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74680" y="2057400"/>
            <a:ext cx="9601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inal muscular atrophy(SMA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enotipo autosomico recessivo letale,1/10.000 nati vivi. In circa il 18% dei casi e’ associato ad un riarrangiamento di una regione di ~500kb in 5q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" y="4343400"/>
            <a:ext cx="9296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ndrome di H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enotipo X-linked recessivo, dovuto a mutazioni del gene IDS (Xq28).Nel 20% dei casi la mutazione e’ dovuta a ricombinazione fra IDS e un suo pseudogene localizzato 90Kb a va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marL="781200"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aratteri mendeliani II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SR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76320" y="0"/>
            <a:ext cx="9524520" cy="7277760"/>
            <a:chOff x="76320" y="0"/>
            <a:chExt cx="9524520" cy="7277760"/>
          </a:xfrm>
        </p:grpSpPr>
        <p:pic>
          <p:nvPicPr>
            <p:cNvPr id="57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3200" cy="85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952560" y="124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02800" y="565560"/>
              <a:ext cx="8636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 txBox="1"/>
            <p:nvPr/>
          </p:nvSpPr>
          <p:spPr>
            <a:xfrm>
              <a:off x="4435200" y="80640"/>
              <a:ext cx="5165640" cy="41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3120" y="70315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4394160" y="4497480"/>
            <a:ext cx="635040" cy="371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12920" y="4064040"/>
            <a:ext cx="755640" cy="111456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58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LCR 17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4343400" y="1905120"/>
            <a:ext cx="455760" cy="122544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9331200" y="4513320"/>
            <a:ext cx="308160" cy="371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06360" y="4497480"/>
            <a:ext cx="384120" cy="371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87520" y="4497480"/>
            <a:ext cx="614160" cy="371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765600" y="4435560"/>
            <a:ext cx="141120" cy="55728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948200" y="4068720"/>
            <a:ext cx="755640" cy="111276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607000" y="4311720"/>
            <a:ext cx="384120" cy="743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aee19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913360" y="4319640"/>
            <a:ext cx="228600" cy="7351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90500"/>
              </a:gs>
              <a:gs pos="100000">
                <a:srgbClr val="ff9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99120" y="4497480"/>
            <a:ext cx="614520" cy="371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140760" y="4191120"/>
            <a:ext cx="231840" cy="6778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27080" y="4219560"/>
            <a:ext cx="178920" cy="879840"/>
            <a:chOff x="127080" y="4219560"/>
            <a:chExt cx="178920" cy="879840"/>
          </a:xfrm>
        </p:grpSpPr>
        <p:sp>
          <p:nvSpPr>
            <p:cNvPr id="603" name=""/>
            <p:cNvSpPr/>
            <p:nvPr/>
          </p:nvSpPr>
          <p:spPr>
            <a:xfrm>
              <a:off x="127080" y="4312080"/>
              <a:ext cx="76680" cy="24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152280" y="4574160"/>
              <a:ext cx="44280" cy="33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46160" y="4914000"/>
              <a:ext cx="83160" cy="18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03760" y="4219560"/>
              <a:ext cx="76680" cy="24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229320" y="4482360"/>
              <a:ext cx="44280" cy="33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23200" y="4822200"/>
              <a:ext cx="82800" cy="18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536400" y="4064040"/>
            <a:ext cx="230400" cy="1114560"/>
          </a:xfrm>
          <a:prstGeom prst="cube">
            <a:avLst>
              <a:gd name="adj" fmla="val 25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069920" y="4419720"/>
            <a:ext cx="154080" cy="5569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50920" y="4064040"/>
            <a:ext cx="230040" cy="1114560"/>
          </a:xfrm>
          <a:prstGeom prst="cube">
            <a:avLst>
              <a:gd name="adj" fmla="val 25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05000" y="4311720"/>
            <a:ext cx="384120" cy="743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97a11"/>
              </a:gs>
              <a:gs pos="100000">
                <a:srgbClr val="ed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12800" y="4311720"/>
            <a:ext cx="384120" cy="743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cfffc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20960" y="4311720"/>
            <a:ext cx="306360" cy="743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164cc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49560" y="4497480"/>
            <a:ext cx="669960" cy="371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87760" y="4381560"/>
            <a:ext cx="191880" cy="64908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25640" y="4381560"/>
            <a:ext cx="192240" cy="649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70360" y="4386240"/>
            <a:ext cx="152280" cy="6444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914400" y="4572000"/>
            <a:ext cx="0" cy="30492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6553080" y="4311720"/>
            <a:ext cx="461880" cy="743040"/>
            <a:chOff x="6553080" y="4311720"/>
            <a:chExt cx="461880" cy="743040"/>
          </a:xfrm>
        </p:grpSpPr>
        <p:sp>
          <p:nvSpPr>
            <p:cNvPr id="621" name=""/>
            <p:cNvSpPr/>
            <p:nvPr/>
          </p:nvSpPr>
          <p:spPr>
            <a:xfrm>
              <a:off x="6553080" y="4311720"/>
              <a:ext cx="289080" cy="743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cfffc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84560" y="4311720"/>
              <a:ext cx="230400" cy="743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6164cc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6962760" y="4068720"/>
            <a:ext cx="754200" cy="1112760"/>
          </a:xfrm>
          <a:prstGeom prst="cube">
            <a:avLst>
              <a:gd name="adj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94120" y="4497480"/>
            <a:ext cx="230040" cy="371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73400" y="4435560"/>
            <a:ext cx="154080" cy="55728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76720" y="4311720"/>
            <a:ext cx="255600" cy="743040"/>
          </a:xfrm>
          <a:prstGeom prst="cube">
            <a:avLst>
              <a:gd name="adj" fmla="val 250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16880" y="4305240"/>
            <a:ext cx="384120" cy="743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cfffc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943760" y="4497480"/>
            <a:ext cx="615960" cy="371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244000" y="4343400"/>
            <a:ext cx="191880" cy="69048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415360" y="4343400"/>
            <a:ext cx="192240" cy="69048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559720" y="4348080"/>
            <a:ext cx="152640" cy="685800"/>
          </a:xfrm>
          <a:prstGeom prst="cube">
            <a:avLst>
              <a:gd name="adj" fmla="val 250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686800" y="4513320"/>
            <a:ext cx="306360" cy="371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8929800" y="4187880"/>
            <a:ext cx="178920" cy="879840"/>
            <a:chOff x="8929800" y="4187880"/>
            <a:chExt cx="178920" cy="879840"/>
          </a:xfrm>
        </p:grpSpPr>
        <p:sp>
          <p:nvSpPr>
            <p:cNvPr id="634" name=""/>
            <p:cNvSpPr/>
            <p:nvPr/>
          </p:nvSpPr>
          <p:spPr>
            <a:xfrm>
              <a:off x="8929800" y="4280400"/>
              <a:ext cx="76680" cy="24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8955000" y="4542480"/>
              <a:ext cx="44280" cy="33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948880" y="4882320"/>
              <a:ext cx="83160" cy="18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9006480" y="4187880"/>
              <a:ext cx="76680" cy="24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9032040" y="4450680"/>
              <a:ext cx="44280" cy="33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025920" y="4790520"/>
              <a:ext cx="82800" cy="18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648360" y="381132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MP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60240" y="32767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4960" y="2700360"/>
            <a:ext cx="117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MT1A-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91440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270080" y="3657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999360" y="3157560"/>
            <a:ext cx="117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xi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MT1A-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6" name=""/>
          <p:cNvCxnSpPr>
            <a:stCxn id="609" idx="3"/>
          </p:cNvCxnSpPr>
          <p:nvPr/>
        </p:nvCxnSpPr>
        <p:spPr>
          <a:xfrm>
            <a:off x="622440" y="5178600"/>
            <a:ext cx="140400" cy="460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7" name=""/>
          <p:cNvCxnSpPr>
            <a:stCxn id="611" idx="3"/>
          </p:cNvCxnSpPr>
          <p:nvPr/>
        </p:nvCxnSpPr>
        <p:spPr>
          <a:xfrm flipH="1">
            <a:off x="1066320" y="5178600"/>
            <a:ext cx="170640" cy="460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8" name=""/>
          <p:cNvSpPr/>
          <p:nvPr/>
        </p:nvSpPr>
        <p:spPr>
          <a:xfrm>
            <a:off x="637920" y="55612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4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066680" y="51814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265760" y="5203080"/>
            <a:ext cx="953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CR17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83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337480" y="3831480"/>
            <a:ext cx="930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CR17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31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666880" y="4267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3502080" y="3390480"/>
            <a:ext cx="3240" cy="800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051720" y="2799000"/>
            <a:ext cx="93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MS-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276720" y="3327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447920" y="3733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32767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96560" y="3832920"/>
            <a:ext cx="9273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CR17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33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14800" y="4267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5343480" y="3390480"/>
            <a:ext cx="3240" cy="800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893120" y="2799000"/>
            <a:ext cx="93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idd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MS-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7324560" y="3406320"/>
            <a:ext cx="3240" cy="800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49360" y="2814840"/>
            <a:ext cx="98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xi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MS-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5452560" y="5202360"/>
            <a:ext cx="950400" cy="438840"/>
            <a:chOff x="5452560" y="5202360"/>
            <a:chExt cx="950400" cy="438840"/>
          </a:xfrm>
        </p:grpSpPr>
        <p:sp>
          <p:nvSpPr>
            <p:cNvPr id="665" name=""/>
            <p:cNvSpPr/>
            <p:nvPr/>
          </p:nvSpPr>
          <p:spPr>
            <a:xfrm>
              <a:off x="5708520" y="520236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52560" y="5249160"/>
              <a:ext cx="9504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LCR17p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91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3352680" y="5257800"/>
            <a:ext cx="15242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5410080" y="5181480"/>
            <a:ext cx="19051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81480" y="5181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728240" y="6001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200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502320" y="5130720"/>
            <a:ext cx="397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92160" y="5241240"/>
            <a:ext cx="944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CR17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1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683480" y="5118120"/>
            <a:ext cx="322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299000" y="5110200"/>
            <a:ext cx="96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CR17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91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066880" y="3756960"/>
            <a:ext cx="9594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CR17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31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410680" y="419256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899920" y="50446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0880" y="6477120"/>
            <a:ext cx="9296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47280" y="6627960"/>
            <a:ext cx="47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,4 Mb totale LCR 1,7 Mb (23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1"/>
          <a:stretch/>
        </p:blipFill>
        <p:spPr>
          <a:xfrm>
            <a:off x="1913040" y="609480"/>
            <a:ext cx="7916760" cy="124776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12"/>
          <a:stretch/>
        </p:blipFill>
        <p:spPr>
          <a:xfrm>
            <a:off x="5345280" y="914400"/>
            <a:ext cx="4408200" cy="42372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 flipH="1">
            <a:off x="1231920" y="2260440"/>
            <a:ext cx="3200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648320" y="2286000"/>
            <a:ext cx="3809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410040" y="1676520"/>
            <a:ext cx="8800200" cy="48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illiams-Beuren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q11.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ader-Willi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gelman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(15)(q11.2q13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plication 15q11.2q1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mith-Magenis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7p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(17)(p11.2p11.2)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7p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George/VCF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2q11.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le infertilit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ZFa microdelet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q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le infertility AZFc microdel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q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Sindromi da geni contigu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76320" y="0"/>
            <a:ext cx="9498960" cy="7218000"/>
            <a:chOff x="76320" y="0"/>
            <a:chExt cx="9498960" cy="7218000"/>
          </a:xfrm>
        </p:grpSpPr>
        <p:pic>
          <p:nvPicPr>
            <p:cNvPr id="68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14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94716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00640" y="560880"/>
              <a:ext cx="8613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 txBox="1"/>
            <p:nvPr/>
          </p:nvSpPr>
          <p:spPr>
            <a:xfrm>
              <a:off x="4423320" y="79920"/>
              <a:ext cx="5151960" cy="41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2760" y="697176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80880" y="1600200"/>
            <a:ext cx="8305920" cy="533520"/>
          </a:xfrm>
          <a:prstGeom prst="rect">
            <a:avLst/>
          </a:prstGeom>
          <a:solidFill>
            <a:srgbClr val="ff00ff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52280" y="5638680"/>
            <a:ext cx="4114800" cy="1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notipo autosomico dominante. mutazione presente: delezione di 1600kb. Prevalenza 1/7500 -1/25.000 fra i nati v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839304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Williams-Beuren syndrome (WBS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984480" y="2724120"/>
            <a:ext cx="5693040" cy="459108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152280" y="3352680"/>
            <a:ext cx="3810240" cy="2259000"/>
          </a:xfrm>
          <a:prstGeom prst="rect">
            <a:avLst/>
          </a:prstGeom>
          <a:ln w="0">
            <a:noFill/>
          </a:ln>
        </p:spPr>
      </p:pic>
      <p:grpSp>
        <p:nvGrpSpPr>
          <p:cNvPr id="697" name=""/>
          <p:cNvGrpSpPr/>
          <p:nvPr/>
        </p:nvGrpSpPr>
        <p:grpSpPr>
          <a:xfrm>
            <a:off x="76320" y="0"/>
            <a:ext cx="9659520" cy="7203960"/>
            <a:chOff x="76320" y="0"/>
            <a:chExt cx="9659520" cy="7203960"/>
          </a:xfrm>
        </p:grpSpPr>
        <p:pic>
          <p:nvPicPr>
            <p:cNvPr id="698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0"/>
              <a:ext cx="77400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97884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2880" y="559800"/>
              <a:ext cx="8759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4496760" y="79920"/>
              <a:ext cx="523908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420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685800" y="1066680"/>
            <a:ext cx="8153280" cy="1670040"/>
            <a:chOff x="685800" y="1066680"/>
            <a:chExt cx="8153280" cy="1670040"/>
          </a:xfrm>
        </p:grpSpPr>
        <p:pic>
          <p:nvPicPr>
            <p:cNvPr id="704" name="" descr=""/>
            <p:cNvPicPr/>
            <p:nvPr/>
          </p:nvPicPr>
          <p:blipFill>
            <a:blip r:embed="rId4"/>
            <a:stretch/>
          </p:blipFill>
          <p:spPr>
            <a:xfrm>
              <a:off x="685800" y="1066680"/>
              <a:ext cx="8153280" cy="167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" descr=""/>
            <p:cNvPicPr/>
            <p:nvPr/>
          </p:nvPicPr>
          <p:blipFill>
            <a:blip r:embed="rId5"/>
            <a:stretch/>
          </p:blipFill>
          <p:spPr>
            <a:xfrm>
              <a:off x="685800" y="1828800"/>
              <a:ext cx="40132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609480" y="1066680"/>
            <a:ext cx="8000640" cy="2141280"/>
            <a:chOff x="609480" y="1066680"/>
            <a:chExt cx="8000640" cy="214128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609480" y="1066680"/>
              <a:ext cx="800064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862360" y="2819520"/>
              <a:ext cx="52833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at. Genet. 31(1):100-105 (2002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762120" y="3124080"/>
            <a:ext cx="7848000" cy="2057400"/>
            <a:chOff x="762120" y="3124080"/>
            <a:chExt cx="7848000" cy="20574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762120" y="3124080"/>
              <a:ext cx="7848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310280" y="4724280"/>
              <a:ext cx="422316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at. Genet. 31(2):200-204 (2002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62120" y="5226120"/>
            <a:ext cx="7848360" cy="1860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95680" y="6324480"/>
            <a:ext cx="39862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at. Genet. 31(2):205-209 (2002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6320" y="0"/>
            <a:ext cx="9613440" cy="7301880"/>
            <a:chOff x="76320" y="0"/>
            <a:chExt cx="9613440" cy="7301880"/>
          </a:xfrm>
        </p:grpSpPr>
        <p:pic>
          <p:nvPicPr>
            <p:cNvPr id="59" name="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76320" y="0"/>
              <a:ext cx="770400" cy="85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970920" y="1245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09280" y="567720"/>
              <a:ext cx="8717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4475880" y="81000"/>
              <a:ext cx="5213880" cy="41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4200" y="705564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Referen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990720" y="6858000"/>
            <a:ext cx="518148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36960" y="533160"/>
            <a:ext cx="6640560" cy="711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illiams-Beuren syndrome (WBS)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76320" y="0"/>
            <a:ext cx="9659520" cy="7203960"/>
            <a:chOff x="76320" y="0"/>
            <a:chExt cx="9659520" cy="7203960"/>
          </a:xfrm>
        </p:grpSpPr>
        <p:pic>
          <p:nvPicPr>
            <p:cNvPr id="70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400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97884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12880" y="559800"/>
              <a:ext cx="8759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 txBox="1"/>
            <p:nvPr/>
          </p:nvSpPr>
          <p:spPr>
            <a:xfrm>
              <a:off x="4496760" y="79920"/>
              <a:ext cx="523908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420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68560" y="3057480"/>
            <a:ext cx="9412920" cy="828360"/>
            <a:chOff x="268560" y="3057480"/>
            <a:chExt cx="9412920" cy="828360"/>
          </a:xfrm>
        </p:grpSpPr>
        <p:sp>
          <p:nvSpPr>
            <p:cNvPr id="715" name=""/>
            <p:cNvSpPr/>
            <p:nvPr/>
          </p:nvSpPr>
          <p:spPr>
            <a:xfrm>
              <a:off x="6788160" y="3514680"/>
              <a:ext cx="577800" cy="165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27160" y="3514680"/>
              <a:ext cx="774720" cy="165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80880" y="3514680"/>
              <a:ext cx="470160" cy="165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5720400">
              <a:off x="771120" y="3505320"/>
              <a:ext cx="279360" cy="177840"/>
            </a:xfrm>
            <a:prstGeom prst="can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998640" y="3286080"/>
              <a:ext cx="117360" cy="599760"/>
              <a:chOff x="998640" y="3286080"/>
              <a:chExt cx="117360" cy="599760"/>
            </a:xfrm>
          </p:grpSpPr>
          <p:sp>
            <p:nvSpPr>
              <p:cNvPr id="720" name=""/>
              <p:cNvSpPr/>
              <p:nvPr/>
            </p:nvSpPr>
            <p:spPr>
              <a:xfrm>
                <a:off x="998640" y="3314520"/>
                <a:ext cx="58680" cy="5713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056960" y="3286080"/>
                <a:ext cx="59040" cy="5713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1812960" y="3514680"/>
              <a:ext cx="522360" cy="309600"/>
            </a:xfrm>
            <a:prstGeom prst="rightArrow">
              <a:avLst>
                <a:gd name="adj1" fmla="val 50000"/>
                <a:gd name="adj2" fmla="val 4218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327400" y="3522600"/>
              <a:ext cx="522000" cy="311040"/>
            </a:xfrm>
            <a:prstGeom prst="rightArrow">
              <a:avLst>
                <a:gd name="adj1" fmla="val 50000"/>
                <a:gd name="adj2" fmla="val 41956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40040" y="3522600"/>
              <a:ext cx="522360" cy="311040"/>
            </a:xfrm>
            <a:prstGeom prst="rightArrow">
              <a:avLst>
                <a:gd name="adj1" fmla="val 50000"/>
                <a:gd name="adj2" fmla="val 4198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62400" y="3525840"/>
              <a:ext cx="285840" cy="30960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726000" y="3514680"/>
              <a:ext cx="2124000" cy="152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754600" y="3527280"/>
              <a:ext cx="522360" cy="311400"/>
            </a:xfrm>
            <a:prstGeom prst="rightArrow">
              <a:avLst>
                <a:gd name="adj1" fmla="val 50000"/>
                <a:gd name="adj2" fmla="val 41936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275520" y="3527280"/>
              <a:ext cx="522000" cy="311400"/>
            </a:xfrm>
            <a:prstGeom prst="rightArrow">
              <a:avLst>
                <a:gd name="adj1" fmla="val 50000"/>
                <a:gd name="adj2" fmla="val 41908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201080" y="3514680"/>
              <a:ext cx="531720" cy="304920"/>
            </a:xfrm>
            <a:prstGeom prst="leftArrow">
              <a:avLst>
                <a:gd name="adj1" fmla="val 50000"/>
                <a:gd name="adj2" fmla="val 4359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709040" y="3514680"/>
              <a:ext cx="533160" cy="304920"/>
            </a:xfrm>
            <a:prstGeom prst="leftArrow">
              <a:avLst>
                <a:gd name="adj1" fmla="val 50000"/>
                <a:gd name="adj2" fmla="val 4371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229600" y="3514680"/>
              <a:ext cx="533520" cy="304920"/>
            </a:xfrm>
            <a:prstGeom prst="leftArrow">
              <a:avLst>
                <a:gd name="adj1" fmla="val 50000"/>
                <a:gd name="adj2" fmla="val 4374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763120" y="3514680"/>
              <a:ext cx="304560" cy="165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9067680" y="3286080"/>
              <a:ext cx="117360" cy="599760"/>
              <a:chOff x="9067680" y="3286080"/>
              <a:chExt cx="117360" cy="599760"/>
            </a:xfrm>
          </p:grpSpPr>
          <p:sp>
            <p:nvSpPr>
              <p:cNvPr id="734" name=""/>
              <p:cNvSpPr/>
              <p:nvPr/>
            </p:nvSpPr>
            <p:spPr>
              <a:xfrm>
                <a:off x="9067680" y="3314520"/>
                <a:ext cx="59040" cy="5713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9126000" y="3286080"/>
                <a:ext cx="59040" cy="5713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9220320" y="3514680"/>
              <a:ext cx="304560" cy="165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8560" y="3085560"/>
              <a:ext cx="63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162360" y="308088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4724280" y="30574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09880" y="3530520"/>
              <a:ext cx="152640" cy="152640"/>
            </a:xfrm>
            <a:prstGeom prst="irregularSeal1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8480" y="3530520"/>
              <a:ext cx="152640" cy="152640"/>
            </a:xfrm>
            <a:prstGeom prst="irregularSeal1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67080" y="3543480"/>
              <a:ext cx="152640" cy="152280"/>
            </a:xfrm>
            <a:prstGeom prst="irregularSeal1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05520" y="3530520"/>
              <a:ext cx="152280" cy="152640"/>
            </a:xfrm>
            <a:prstGeom prst="irregularSeal1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34120" y="3543480"/>
              <a:ext cx="152280" cy="152280"/>
            </a:xfrm>
            <a:prstGeom prst="irregularSeal1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562720" y="3543480"/>
              <a:ext cx="152280" cy="152280"/>
            </a:xfrm>
            <a:prstGeom prst="irregularSeal1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584600" y="3505320"/>
              <a:ext cx="304920" cy="20304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3733920" y="2666520"/>
            <a:ext cx="2057400" cy="838440"/>
            <a:chOff x="3733920" y="2666520"/>
            <a:chExt cx="2057400" cy="838440"/>
          </a:xfrm>
        </p:grpSpPr>
        <p:sp>
          <p:nvSpPr>
            <p:cNvPr id="748" name=""/>
            <p:cNvSpPr/>
            <p:nvPr/>
          </p:nvSpPr>
          <p:spPr>
            <a:xfrm>
              <a:off x="4423680" y="271116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16200000">
              <a:off x="4343400" y="2057040"/>
              <a:ext cx="838440" cy="2057400"/>
            </a:xfrm>
            <a:custGeom>
              <a:avLst/>
              <a:gdLst>
                <a:gd name="textAreaLeft" fmla="*/ 0 w 838440"/>
                <a:gd name="textAreaRight" fmla="*/ 588240 w 838440"/>
                <a:gd name="textAreaTop" fmla="*/ 85680 h 2057400"/>
                <a:gd name="textAreaBottom" fmla="*/ 197172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266760" y="5050440"/>
            <a:ext cx="9413280" cy="807120"/>
            <a:chOff x="266760" y="5050440"/>
            <a:chExt cx="9413280" cy="807120"/>
          </a:xfrm>
        </p:grpSpPr>
        <p:grpSp>
          <p:nvGrpSpPr>
            <p:cNvPr id="751" name=""/>
            <p:cNvGrpSpPr/>
            <p:nvPr/>
          </p:nvGrpSpPr>
          <p:grpSpPr>
            <a:xfrm>
              <a:off x="266760" y="5052600"/>
              <a:ext cx="9413280" cy="804960"/>
              <a:chOff x="266760" y="5052600"/>
              <a:chExt cx="9413280" cy="804960"/>
            </a:xfrm>
          </p:grpSpPr>
          <p:sp>
            <p:nvSpPr>
              <p:cNvPr id="752" name=""/>
              <p:cNvSpPr/>
              <p:nvPr/>
            </p:nvSpPr>
            <p:spPr>
              <a:xfrm>
                <a:off x="3716280" y="5486400"/>
                <a:ext cx="482760" cy="142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097160" y="5476680"/>
                <a:ext cx="533520" cy="304920"/>
              </a:xfrm>
              <a:prstGeom prst="leftArrow">
                <a:avLst>
                  <a:gd name="adj1" fmla="val 50000"/>
                  <a:gd name="adj2" fmla="val 43743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606920" y="5464080"/>
                <a:ext cx="531720" cy="304920"/>
              </a:xfrm>
              <a:prstGeom prst="leftArrow">
                <a:avLst>
                  <a:gd name="adj1" fmla="val 50000"/>
                  <a:gd name="adj2" fmla="val 4359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"/>
              <p:cNvGrpSpPr/>
              <p:nvPr/>
            </p:nvGrpSpPr>
            <p:grpSpPr>
              <a:xfrm>
                <a:off x="5189400" y="5489640"/>
                <a:ext cx="2124000" cy="203040"/>
                <a:chOff x="5189400" y="5489640"/>
                <a:chExt cx="2124000" cy="20304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5189400" y="5499000"/>
                  <a:ext cx="2124000" cy="151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273640" y="5514840"/>
                  <a:ext cx="152280" cy="151920"/>
                </a:xfrm>
                <a:prstGeom prst="irregularSeal1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502240" y="5514840"/>
                  <a:ext cx="152280" cy="151920"/>
                </a:xfrm>
                <a:prstGeom prst="irregularSeal1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730840" y="5527440"/>
                  <a:ext cx="152280" cy="152280"/>
                </a:xfrm>
                <a:prstGeom prst="irregularSeal1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568920" y="5514840"/>
                  <a:ext cx="152640" cy="151920"/>
                </a:xfrm>
                <a:prstGeom prst="irregularSeal1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6797520" y="5527440"/>
                  <a:ext cx="152640" cy="152280"/>
                </a:xfrm>
                <a:prstGeom prst="irregularSeal1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026120" y="5527440"/>
                  <a:ext cx="152640" cy="152280"/>
                </a:xfrm>
                <a:prstGeom prst="irregularSeal1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6048360" y="5489640"/>
                  <a:ext cx="304560" cy="20304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4" name=""/>
              <p:cNvSpPr/>
              <p:nvPr/>
            </p:nvSpPr>
            <p:spPr>
              <a:xfrm>
                <a:off x="1125360" y="5486400"/>
                <a:ext cx="774720" cy="164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79440" y="5486400"/>
                <a:ext cx="469800" cy="164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5720400">
                <a:off x="769680" y="5476680"/>
                <a:ext cx="279360" cy="1778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7" name=""/>
              <p:cNvGrpSpPr/>
              <p:nvPr/>
            </p:nvGrpSpPr>
            <p:grpSpPr>
              <a:xfrm>
                <a:off x="996840" y="5257800"/>
                <a:ext cx="117360" cy="599760"/>
                <a:chOff x="996840" y="5257800"/>
                <a:chExt cx="117360" cy="59976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996840" y="5286240"/>
                  <a:ext cx="59040" cy="57132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055160" y="5257800"/>
                  <a:ext cx="59040" cy="57132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" name=""/>
              <p:cNvSpPr/>
              <p:nvPr/>
            </p:nvSpPr>
            <p:spPr>
              <a:xfrm>
                <a:off x="1811160" y="5486400"/>
                <a:ext cx="522360" cy="309600"/>
              </a:xfrm>
              <a:prstGeom prst="rightArrow">
                <a:avLst>
                  <a:gd name="adj1" fmla="val 50000"/>
                  <a:gd name="adj2" fmla="val 4218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325600" y="5494320"/>
                <a:ext cx="522360" cy="311040"/>
              </a:xfrm>
              <a:prstGeom prst="rightArrow">
                <a:avLst>
                  <a:gd name="adj1" fmla="val 50000"/>
                  <a:gd name="adj2" fmla="val 4198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838600" y="5494320"/>
                <a:ext cx="522000" cy="311040"/>
              </a:xfrm>
              <a:prstGeom prst="rightArrow">
                <a:avLst>
                  <a:gd name="adj1" fmla="val 50000"/>
                  <a:gd name="adj2" fmla="val 41956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360600" y="5497560"/>
                <a:ext cx="285840" cy="3096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199280" y="5486400"/>
                <a:ext cx="531720" cy="304560"/>
              </a:xfrm>
              <a:prstGeom prst="leftArrow">
                <a:avLst>
                  <a:gd name="adj1" fmla="val 50000"/>
                  <a:gd name="adj2" fmla="val 43647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707240" y="5486400"/>
                <a:ext cx="533520" cy="304560"/>
              </a:xfrm>
              <a:prstGeom prst="leftArrow">
                <a:avLst>
                  <a:gd name="adj1" fmla="val 50000"/>
                  <a:gd name="adj2" fmla="val 43794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228160" y="5486400"/>
                <a:ext cx="533160" cy="304560"/>
              </a:xfrm>
              <a:prstGeom prst="leftArrow">
                <a:avLst>
                  <a:gd name="adj1" fmla="val 50000"/>
                  <a:gd name="adj2" fmla="val 4376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761320" y="5486400"/>
                <a:ext cx="304920" cy="164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"/>
              <p:cNvGrpSpPr/>
              <p:nvPr/>
            </p:nvGrpSpPr>
            <p:grpSpPr>
              <a:xfrm>
                <a:off x="9066240" y="5257800"/>
                <a:ext cx="117360" cy="599760"/>
                <a:chOff x="9066240" y="5257800"/>
                <a:chExt cx="117360" cy="59976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9066240" y="5286240"/>
                  <a:ext cx="58680" cy="57132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9124560" y="5257800"/>
                  <a:ext cx="59040" cy="57132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" name=""/>
              <p:cNvSpPr/>
              <p:nvPr/>
            </p:nvSpPr>
            <p:spPr>
              <a:xfrm>
                <a:off x="9218520" y="5486400"/>
                <a:ext cx="304920" cy="164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66760" y="5057280"/>
                <a:ext cx="6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c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9160920" y="5052600"/>
                <a:ext cx="51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t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>
              <a:off x="6153480" y="5050440"/>
              <a:ext cx="258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osoma inverti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233280" y="3809880"/>
            <a:ext cx="7389000" cy="1151640"/>
            <a:chOff x="233280" y="3809880"/>
            <a:chExt cx="7389000" cy="1151640"/>
          </a:xfrm>
        </p:grpSpPr>
        <p:sp>
          <p:nvSpPr>
            <p:cNvPr id="786" name=""/>
            <p:cNvSpPr/>
            <p:nvPr/>
          </p:nvSpPr>
          <p:spPr>
            <a:xfrm>
              <a:off x="2383920" y="45932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osoma dele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233280" y="3809880"/>
              <a:ext cx="7389000" cy="928440"/>
              <a:chOff x="233280" y="3809880"/>
              <a:chExt cx="7389000" cy="92844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233280" y="3933360"/>
                <a:ext cx="7389000" cy="804960"/>
                <a:chOff x="233280" y="3933360"/>
                <a:chExt cx="7389000" cy="80496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4728960" y="4367160"/>
                  <a:ext cx="577800" cy="1652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092240" y="4367160"/>
                  <a:ext cx="774360" cy="1652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345960" y="4367160"/>
                  <a:ext cx="469440" cy="1652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rot="5720400">
                  <a:off x="735840" y="4357800"/>
                  <a:ext cx="279360" cy="1774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3" name=""/>
                <p:cNvGrpSpPr/>
                <p:nvPr/>
              </p:nvGrpSpPr>
              <p:grpSpPr>
                <a:xfrm>
                  <a:off x="963720" y="4138560"/>
                  <a:ext cx="116640" cy="599760"/>
                  <a:chOff x="963720" y="4138560"/>
                  <a:chExt cx="116640" cy="599760"/>
                </a:xfrm>
              </p:grpSpPr>
              <p:sp>
                <p:nvSpPr>
                  <p:cNvPr id="794" name=""/>
                  <p:cNvSpPr/>
                  <p:nvPr/>
                </p:nvSpPr>
                <p:spPr>
                  <a:xfrm>
                    <a:off x="963720" y="4167000"/>
                    <a:ext cx="5868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1021680" y="4138560"/>
                    <a:ext cx="5868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6" name=""/>
                <p:cNvSpPr/>
                <p:nvPr/>
              </p:nvSpPr>
              <p:spPr>
                <a:xfrm>
                  <a:off x="1778040" y="4367160"/>
                  <a:ext cx="522000" cy="309600"/>
                </a:xfrm>
                <a:prstGeom prst="rightArrow">
                  <a:avLst>
                    <a:gd name="adj1" fmla="val 50000"/>
                    <a:gd name="adj2" fmla="val 4215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2292120" y="4375080"/>
                  <a:ext cx="522000" cy="311040"/>
                </a:xfrm>
                <a:prstGeom prst="rightArrow">
                  <a:avLst>
                    <a:gd name="adj1" fmla="val 50000"/>
                    <a:gd name="adj2" fmla="val 4195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2805120" y="4375080"/>
                  <a:ext cx="522000" cy="311040"/>
                </a:xfrm>
                <a:prstGeom prst="rightArrow">
                  <a:avLst>
                    <a:gd name="adj1" fmla="val 50000"/>
                    <a:gd name="adj2" fmla="val 4195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3327480" y="4378320"/>
                  <a:ext cx="285120" cy="309600"/>
                </a:xfrm>
                <a:prstGeom prst="rightArrow">
                  <a:avLst>
                    <a:gd name="adj1" fmla="val 50000"/>
                    <a:gd name="adj2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3695760" y="4379760"/>
                  <a:ext cx="521640" cy="311400"/>
                </a:xfrm>
                <a:prstGeom prst="rightArrow">
                  <a:avLst>
                    <a:gd name="adj1" fmla="val 50000"/>
                    <a:gd name="adj2" fmla="val 4187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216320" y="4379760"/>
                  <a:ext cx="522000" cy="311400"/>
                </a:xfrm>
                <a:prstGeom prst="rightArrow">
                  <a:avLst>
                    <a:gd name="adj1" fmla="val 50000"/>
                    <a:gd name="adj2" fmla="val 4190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141880" y="4367160"/>
                  <a:ext cx="531360" cy="304920"/>
                </a:xfrm>
                <a:prstGeom prst="leftArrow">
                  <a:avLst>
                    <a:gd name="adj1" fmla="val 50000"/>
                    <a:gd name="adj2" fmla="val 4356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649840" y="4367160"/>
                  <a:ext cx="533160" cy="304920"/>
                </a:xfrm>
                <a:prstGeom prst="leftArrow">
                  <a:avLst>
                    <a:gd name="adj1" fmla="val 50000"/>
                    <a:gd name="adj2" fmla="val 43713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170400" y="4367160"/>
                  <a:ext cx="533160" cy="304920"/>
                </a:xfrm>
                <a:prstGeom prst="leftArrow">
                  <a:avLst>
                    <a:gd name="adj1" fmla="val 50000"/>
                    <a:gd name="adj2" fmla="val 43713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703920" y="4367160"/>
                  <a:ext cx="304560" cy="1652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6" name=""/>
                <p:cNvGrpSpPr/>
                <p:nvPr/>
              </p:nvGrpSpPr>
              <p:grpSpPr>
                <a:xfrm>
                  <a:off x="7008840" y="4138560"/>
                  <a:ext cx="116640" cy="599760"/>
                  <a:chOff x="7008840" y="4138560"/>
                  <a:chExt cx="116640" cy="599760"/>
                </a:xfrm>
              </p:grpSpPr>
              <p:sp>
                <p:nvSpPr>
                  <p:cNvPr id="807" name=""/>
                  <p:cNvSpPr/>
                  <p:nvPr/>
                </p:nvSpPr>
                <p:spPr>
                  <a:xfrm>
                    <a:off x="7008840" y="4167000"/>
                    <a:ext cx="5868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7066800" y="4138560"/>
                    <a:ext cx="5868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9" name=""/>
                <p:cNvSpPr/>
                <p:nvPr/>
              </p:nvSpPr>
              <p:spPr>
                <a:xfrm>
                  <a:off x="7161120" y="4367160"/>
                  <a:ext cx="304560" cy="1652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233280" y="3938040"/>
                  <a:ext cx="63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ce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7103160" y="3933360"/>
                  <a:ext cx="519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t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2" name=""/>
              <p:cNvSpPr/>
              <p:nvPr/>
            </p:nvSpPr>
            <p:spPr>
              <a:xfrm rot="5400000">
                <a:off x="4799880" y="3962160"/>
                <a:ext cx="533520" cy="228600"/>
              </a:xfrm>
              <a:custGeom>
                <a:avLst/>
                <a:gdLst>
                  <a:gd name="textAreaLeft" fmla="*/ 83160 w 533520"/>
                  <a:gd name="textAreaRight" fmla="*/ 466920 w 533520"/>
                  <a:gd name="textAreaTop" fmla="*/ 57240 h 228600"/>
                  <a:gd name="textAreaBottom" fmla="*/ 17172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"/>
          <p:cNvGrpSpPr/>
          <p:nvPr/>
        </p:nvGrpSpPr>
        <p:grpSpPr>
          <a:xfrm>
            <a:off x="3558960" y="1542600"/>
            <a:ext cx="5203800" cy="3638880"/>
            <a:chOff x="3558960" y="1542600"/>
            <a:chExt cx="5203800" cy="3638880"/>
          </a:xfrm>
        </p:grpSpPr>
        <p:sp>
          <p:nvSpPr>
            <p:cNvPr id="814" name=""/>
            <p:cNvSpPr/>
            <p:nvPr/>
          </p:nvSpPr>
          <p:spPr>
            <a:xfrm>
              <a:off x="3558960" y="1542600"/>
              <a:ext cx="431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Inversione benigna nel 28% dei genitori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16200000">
              <a:off x="4686120" y="952200"/>
              <a:ext cx="1600200" cy="3504960"/>
            </a:xfrm>
            <a:custGeom>
              <a:avLst/>
              <a:gdLst>
                <a:gd name="textAreaLeft" fmla="*/ 0 w 1600200"/>
                <a:gd name="textAreaRight" fmla="*/ 1122480 w 1600200"/>
                <a:gd name="textAreaTop" fmla="*/ 145800 h 3504960"/>
                <a:gd name="textAreaBottom" fmla="*/ 3359160 h 35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5400000">
              <a:off x="8038800" y="4457520"/>
              <a:ext cx="1218960" cy="228600"/>
            </a:xfrm>
            <a:custGeom>
              <a:avLst/>
              <a:gdLst>
                <a:gd name="textAreaLeft" fmla="*/ 19044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7" name="" descr=""/>
          <p:cNvPicPr/>
          <p:nvPr/>
        </p:nvPicPr>
        <p:blipFill>
          <a:blip r:embed="rId5"/>
          <a:stretch/>
        </p:blipFill>
        <p:spPr>
          <a:xfrm>
            <a:off x="990720" y="6173640"/>
            <a:ext cx="7937280" cy="91296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6"/>
          <a:stretch/>
        </p:blipFill>
        <p:spPr>
          <a:xfrm>
            <a:off x="5943600" y="7051680"/>
            <a:ext cx="2997360" cy="304920"/>
          </a:xfrm>
          <a:prstGeom prst="rect">
            <a:avLst/>
          </a:prstGeom>
          <a:ln w="0">
            <a:noFill/>
          </a:ln>
        </p:spPr>
      </p:pic>
      <p:grpSp>
        <p:nvGrpSpPr>
          <p:cNvPr id="819" name=""/>
          <p:cNvGrpSpPr/>
          <p:nvPr/>
        </p:nvGrpSpPr>
        <p:grpSpPr>
          <a:xfrm>
            <a:off x="720720" y="844560"/>
            <a:ext cx="1976040" cy="2005560"/>
            <a:chOff x="720720" y="844560"/>
            <a:chExt cx="1976040" cy="2005560"/>
          </a:xfrm>
        </p:grpSpPr>
        <p:pic>
          <p:nvPicPr>
            <p:cNvPr id="820" name="" descr=""/>
            <p:cNvPicPr/>
            <p:nvPr/>
          </p:nvPicPr>
          <p:blipFill>
            <a:blip r:embed="rId7"/>
            <a:stretch/>
          </p:blipFill>
          <p:spPr>
            <a:xfrm>
              <a:off x="762120" y="844560"/>
              <a:ext cx="71424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1295280" y="175248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20720" y="2481840"/>
              <a:ext cx="96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.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90840" y="154512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7q11.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410040" y="1676520"/>
            <a:ext cx="8800200" cy="48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illiams-Beuren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q11.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ader-Willi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gelman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(15)(q11.2q13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plication 15q11.2q1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mith-Magenis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7p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(17)(p11.2p11.2)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7p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George/VCF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2q11.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le infertilit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ZFa microdelet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q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le infertility AZFc microdel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q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Sindromi da geni contigu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76320" y="0"/>
            <a:ext cx="9498960" cy="7218000"/>
            <a:chOff x="76320" y="0"/>
            <a:chExt cx="9498960" cy="7218000"/>
          </a:xfrm>
        </p:grpSpPr>
        <p:pic>
          <p:nvPicPr>
            <p:cNvPr id="82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14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>
              <a:off x="94716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00640" y="560880"/>
              <a:ext cx="8613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 txBox="1"/>
            <p:nvPr/>
          </p:nvSpPr>
          <p:spPr>
            <a:xfrm>
              <a:off x="4423320" y="79920"/>
              <a:ext cx="5151960" cy="41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12760" y="697176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304920" y="4648320"/>
            <a:ext cx="8305560" cy="533160"/>
          </a:xfrm>
          <a:prstGeom prst="rect">
            <a:avLst/>
          </a:prstGeom>
          <a:solidFill>
            <a:srgbClr val="ff00ff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"/>
          <p:cNvGrpSpPr/>
          <p:nvPr/>
        </p:nvGrpSpPr>
        <p:grpSpPr>
          <a:xfrm>
            <a:off x="76320" y="0"/>
            <a:ext cx="9498960" cy="7218000"/>
            <a:chOff x="76320" y="0"/>
            <a:chExt cx="9498960" cy="7218000"/>
          </a:xfrm>
        </p:grpSpPr>
        <p:pic>
          <p:nvPicPr>
            <p:cNvPr id="83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14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94716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00640" y="560880"/>
              <a:ext cx="8613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 txBox="1"/>
            <p:nvPr/>
          </p:nvSpPr>
          <p:spPr>
            <a:xfrm>
              <a:off x="4423320" y="79920"/>
              <a:ext cx="5151960" cy="41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12760" y="697176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419360" y="685440"/>
            <a:ext cx="281916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GS/VC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2589120" y="609480"/>
            <a:ext cx="412920" cy="658800"/>
          </a:xfrm>
          <a:prstGeom prst="rect">
            <a:avLst/>
          </a:prstGeom>
          <a:ln w="0">
            <a:noFill/>
          </a:ln>
        </p:spPr>
      </p:pic>
      <p:grpSp>
        <p:nvGrpSpPr>
          <p:cNvPr id="841" name=""/>
          <p:cNvGrpSpPr/>
          <p:nvPr/>
        </p:nvGrpSpPr>
        <p:grpSpPr>
          <a:xfrm>
            <a:off x="2949480" y="783360"/>
            <a:ext cx="1480320" cy="368280"/>
            <a:chOff x="2949480" y="783360"/>
            <a:chExt cx="1480320" cy="368280"/>
          </a:xfrm>
        </p:grpSpPr>
        <p:sp>
          <p:nvSpPr>
            <p:cNvPr id="842" name=""/>
            <p:cNvSpPr/>
            <p:nvPr/>
          </p:nvSpPr>
          <p:spPr>
            <a:xfrm>
              <a:off x="2949480" y="99072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264480" y="78336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2q11.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676520" y="1523880"/>
            <a:ext cx="3809880" cy="2895840"/>
            <a:chOff x="1676520" y="1523880"/>
            <a:chExt cx="3809880" cy="2895840"/>
          </a:xfrm>
        </p:grpSpPr>
        <p:grpSp>
          <p:nvGrpSpPr>
            <p:cNvPr id="845" name=""/>
            <p:cNvGrpSpPr/>
            <p:nvPr/>
          </p:nvGrpSpPr>
          <p:grpSpPr>
            <a:xfrm>
              <a:off x="1676520" y="1752480"/>
              <a:ext cx="469080" cy="2168280"/>
              <a:chOff x="1676520" y="1752480"/>
              <a:chExt cx="469080" cy="2168280"/>
            </a:xfrm>
          </p:grpSpPr>
          <p:sp>
            <p:nvSpPr>
              <p:cNvPr id="846" name=""/>
              <p:cNvSpPr/>
              <p:nvPr/>
            </p:nvSpPr>
            <p:spPr>
              <a:xfrm>
                <a:off x="1676520" y="3771000"/>
                <a:ext cx="464400" cy="1497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676520" y="3665880"/>
                <a:ext cx="464400" cy="149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676520" y="3553200"/>
                <a:ext cx="464400" cy="149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676520" y="3448080"/>
                <a:ext cx="464400" cy="149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676520" y="3152160"/>
                <a:ext cx="464400" cy="3585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676520" y="2989800"/>
                <a:ext cx="464400" cy="252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676520" y="2812680"/>
                <a:ext cx="464400" cy="252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676520" y="2727360"/>
                <a:ext cx="464400" cy="149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676520" y="2622240"/>
                <a:ext cx="464400" cy="149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676520" y="2444760"/>
                <a:ext cx="464400" cy="252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70408"/>
                  </a:gs>
                  <a:gs pos="50000">
                    <a:srgbClr val="ffffff"/>
                  </a:gs>
                  <a:gs pos="100000">
                    <a:srgbClr val="870408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753920" y="2284200"/>
                <a:ext cx="309600" cy="17712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681200" y="1752480"/>
                <a:ext cx="464400" cy="177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681200" y="2075400"/>
                <a:ext cx="464400" cy="253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738800" y="1981080"/>
                <a:ext cx="348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738800" y="2051280"/>
                <a:ext cx="348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flipV="1">
              <a:off x="2133720" y="1905120"/>
              <a:ext cx="236196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133720" y="2743200"/>
              <a:ext cx="236196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05520" y="1523880"/>
              <a:ext cx="0" cy="289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29200" y="182880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29200" y="256716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029200" y="296064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029200" y="340524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029200" y="378612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5486400" y="1676520"/>
            <a:ext cx="3340080" cy="1981080"/>
            <a:chOff x="5486400" y="1676520"/>
            <a:chExt cx="3340080" cy="1981080"/>
          </a:xfrm>
        </p:grpSpPr>
        <p:sp>
          <p:nvSpPr>
            <p:cNvPr id="870" name=""/>
            <p:cNvSpPr/>
            <p:nvPr/>
          </p:nvSpPr>
          <p:spPr>
            <a:xfrm>
              <a:off x="6553080" y="1676520"/>
              <a:ext cx="304920" cy="198108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82440 h 1981080"/>
                <a:gd name="textAreaBottom" fmla="*/ 18986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7600" y="2239560"/>
              <a:ext cx="19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3 Mb (85-90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486400" y="1676520"/>
              <a:ext cx="304920" cy="106668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898240" y="1831320"/>
              <a:ext cx="86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.5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(8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486400" y="1676520"/>
              <a:ext cx="304920" cy="160020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877000" y="2666160"/>
              <a:ext cx="67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(2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123840" y="4214520"/>
            <a:ext cx="9263160" cy="2134800"/>
            <a:chOff x="123840" y="4214520"/>
            <a:chExt cx="9263160" cy="2134800"/>
          </a:xfrm>
        </p:grpSpPr>
        <p:sp>
          <p:nvSpPr>
            <p:cNvPr id="877" name=""/>
            <p:cNvSpPr/>
            <p:nvPr/>
          </p:nvSpPr>
          <p:spPr>
            <a:xfrm>
              <a:off x="5867280" y="5316120"/>
              <a:ext cx="457200" cy="215640"/>
            </a:xfrm>
            <a:prstGeom prst="leftArrow">
              <a:avLst>
                <a:gd name="adj1" fmla="val 50000"/>
                <a:gd name="adj2" fmla="val 5300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324480" y="5341680"/>
              <a:ext cx="685800" cy="15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6934320" y="5265360"/>
              <a:ext cx="380880" cy="299880"/>
              <a:chOff x="6934320" y="5265360"/>
              <a:chExt cx="380880" cy="299880"/>
            </a:xfrm>
          </p:grpSpPr>
          <p:sp>
            <p:nvSpPr>
              <p:cNvPr id="880" name=""/>
              <p:cNvSpPr/>
              <p:nvPr/>
            </p:nvSpPr>
            <p:spPr>
              <a:xfrm>
                <a:off x="6934320" y="5265360"/>
                <a:ext cx="380880" cy="299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972120" y="543024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1257480" y="4570200"/>
              <a:ext cx="7530840" cy="299520"/>
              <a:chOff x="1257480" y="4570200"/>
              <a:chExt cx="7530840" cy="299520"/>
            </a:xfrm>
          </p:grpSpPr>
          <p:sp>
            <p:nvSpPr>
              <p:cNvPr id="883" name=""/>
              <p:cNvSpPr/>
              <p:nvPr/>
            </p:nvSpPr>
            <p:spPr>
              <a:xfrm>
                <a:off x="1257480" y="4620600"/>
                <a:ext cx="457200" cy="215640"/>
              </a:xfrm>
              <a:prstGeom prst="leftArrow">
                <a:avLst>
                  <a:gd name="adj1" fmla="val 50000"/>
                  <a:gd name="adj2" fmla="val 5300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714680" y="4645800"/>
                <a:ext cx="685800" cy="1522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324160" y="4570200"/>
                <a:ext cx="3808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629080" y="457020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162240" y="4570200"/>
                <a:ext cx="38124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467160" y="457020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000680" y="457020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533840" y="4570200"/>
                <a:ext cx="60984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99cc"/>
                  </a:gs>
                  <a:gs pos="50000">
                    <a:srgbClr val="ffffff"/>
                  </a:gs>
                  <a:gs pos="100000">
                    <a:srgbClr val="ff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067360" y="457020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600880" y="457020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362320" y="473472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6688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200400" y="473472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50532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03848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57200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134040" y="4570200"/>
                <a:ext cx="60984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692760" y="4645800"/>
                <a:ext cx="685800" cy="1522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302600" y="4570200"/>
                <a:ext cx="3808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607160" y="4645800"/>
                <a:ext cx="685800" cy="1522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267760" y="4620600"/>
                <a:ext cx="520560" cy="228240"/>
              </a:xfrm>
              <a:prstGeom prst="rightArrow">
                <a:avLst>
                  <a:gd name="adj1" fmla="val 50000"/>
                  <a:gd name="adj2" fmla="val 57019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7996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60088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13404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353360" y="47476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>
              <a:off x="828360" y="448308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849600" y="5143320"/>
              <a:ext cx="4484160" cy="459720"/>
              <a:chOff x="849600" y="5143320"/>
              <a:chExt cx="4484160" cy="459720"/>
            </a:xfrm>
          </p:grpSpPr>
          <p:sp>
            <p:nvSpPr>
              <p:cNvPr id="910" name=""/>
              <p:cNvSpPr/>
              <p:nvPr/>
            </p:nvSpPr>
            <p:spPr>
              <a:xfrm>
                <a:off x="1447560" y="5306400"/>
                <a:ext cx="457200" cy="215640"/>
              </a:xfrm>
              <a:prstGeom prst="leftArrow">
                <a:avLst>
                  <a:gd name="adj1" fmla="val 50000"/>
                  <a:gd name="adj2" fmla="val 5300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04760" y="5331960"/>
                <a:ext cx="685800" cy="151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476080" y="5255640"/>
                <a:ext cx="60984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09600" y="525564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476080" y="5433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009600" y="5433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543120" y="5255640"/>
                <a:ext cx="3808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581280" y="54208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847680" y="5250960"/>
                <a:ext cx="38124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873240" y="54334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152600" y="5331960"/>
                <a:ext cx="685800" cy="151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812840" y="5306400"/>
                <a:ext cx="520920" cy="228240"/>
              </a:xfrm>
              <a:prstGeom prst="rightArrow">
                <a:avLst>
                  <a:gd name="adj1" fmla="val 50000"/>
                  <a:gd name="adj2" fmla="val 57058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49600" y="51433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3" name=""/>
            <p:cNvSpPr/>
            <p:nvPr/>
          </p:nvSpPr>
          <p:spPr>
            <a:xfrm>
              <a:off x="7201080" y="5265360"/>
              <a:ext cx="609480" cy="299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3300"/>
                </a:gs>
                <a:gs pos="50000">
                  <a:srgbClr val="ffffff"/>
                </a:gs>
                <a:gs pos="100000">
                  <a:srgbClr val="00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01080" y="5430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772400" y="5341680"/>
              <a:ext cx="685800" cy="15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432640" y="5316120"/>
              <a:ext cx="520920" cy="228240"/>
            </a:xfrm>
            <a:prstGeom prst="rightArrow">
              <a:avLst>
                <a:gd name="adj1" fmla="val 50000"/>
                <a:gd name="adj2" fmla="val 57058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914680" y="51274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23840" y="421452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295280" y="6068880"/>
              <a:ext cx="457200" cy="215280"/>
            </a:xfrm>
            <a:prstGeom prst="leftArrow">
              <a:avLst>
                <a:gd name="adj1" fmla="val 50000"/>
                <a:gd name="adj2" fmla="val 53094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752480" y="6094080"/>
              <a:ext cx="685800" cy="152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2362320" y="6018120"/>
              <a:ext cx="609480" cy="299520"/>
              <a:chOff x="2362320" y="6018120"/>
              <a:chExt cx="609480" cy="299520"/>
            </a:xfrm>
          </p:grpSpPr>
          <p:sp>
            <p:nvSpPr>
              <p:cNvPr id="932" name=""/>
              <p:cNvSpPr/>
              <p:nvPr/>
            </p:nvSpPr>
            <p:spPr>
              <a:xfrm>
                <a:off x="2362320" y="601812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400120" y="619524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2895480" y="6018120"/>
              <a:ext cx="609480" cy="299520"/>
              <a:chOff x="2895480" y="6018120"/>
              <a:chExt cx="609480" cy="299520"/>
            </a:xfrm>
          </p:grpSpPr>
          <p:sp>
            <p:nvSpPr>
              <p:cNvPr id="935" name=""/>
              <p:cNvSpPr/>
              <p:nvPr/>
            </p:nvSpPr>
            <p:spPr>
              <a:xfrm>
                <a:off x="2895480" y="601812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933640" y="61952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3416400" y="6018120"/>
              <a:ext cx="609480" cy="299520"/>
              <a:chOff x="3416400" y="6018120"/>
              <a:chExt cx="609480" cy="299520"/>
            </a:xfrm>
          </p:grpSpPr>
          <p:sp>
            <p:nvSpPr>
              <p:cNvPr id="938" name=""/>
              <p:cNvSpPr/>
              <p:nvPr/>
            </p:nvSpPr>
            <p:spPr>
              <a:xfrm>
                <a:off x="3416400" y="601812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99cc"/>
                  </a:gs>
                  <a:gs pos="50000">
                    <a:srgbClr val="ffffff"/>
                  </a:gs>
                  <a:gs pos="100000">
                    <a:srgbClr val="ff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454560" y="61952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3949560" y="6005160"/>
              <a:ext cx="609480" cy="299880"/>
              <a:chOff x="3949560" y="6005160"/>
              <a:chExt cx="609480" cy="299880"/>
            </a:xfrm>
          </p:grpSpPr>
          <p:sp>
            <p:nvSpPr>
              <p:cNvPr id="941" name=""/>
              <p:cNvSpPr/>
              <p:nvPr/>
            </p:nvSpPr>
            <p:spPr>
              <a:xfrm>
                <a:off x="3949560" y="6005160"/>
                <a:ext cx="609480" cy="299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962160" y="61826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4483080" y="6005160"/>
              <a:ext cx="609480" cy="299880"/>
              <a:chOff x="4483080" y="6005160"/>
              <a:chExt cx="609480" cy="299880"/>
            </a:xfrm>
          </p:grpSpPr>
          <p:sp>
            <p:nvSpPr>
              <p:cNvPr id="944" name=""/>
              <p:cNvSpPr/>
              <p:nvPr/>
            </p:nvSpPr>
            <p:spPr>
              <a:xfrm>
                <a:off x="4483080" y="6005160"/>
                <a:ext cx="609480" cy="299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483080" y="618264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5003640" y="6005160"/>
              <a:ext cx="380880" cy="299880"/>
              <a:chOff x="5003640" y="6005160"/>
              <a:chExt cx="380880" cy="299880"/>
            </a:xfrm>
          </p:grpSpPr>
          <p:sp>
            <p:nvSpPr>
              <p:cNvPr id="947" name=""/>
              <p:cNvSpPr/>
              <p:nvPr/>
            </p:nvSpPr>
            <p:spPr>
              <a:xfrm>
                <a:off x="5003640" y="6005160"/>
                <a:ext cx="380880" cy="299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041800" y="617004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>
              <a:off x="5308560" y="6005160"/>
              <a:ext cx="380880" cy="299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46720" y="61704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638680" y="6094080"/>
              <a:ext cx="685800" cy="152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6248520" y="6005160"/>
              <a:ext cx="609480" cy="299880"/>
              <a:chOff x="6248520" y="6005160"/>
              <a:chExt cx="609480" cy="299880"/>
            </a:xfrm>
          </p:grpSpPr>
          <p:sp>
            <p:nvSpPr>
              <p:cNvPr id="953" name=""/>
              <p:cNvSpPr/>
              <p:nvPr/>
            </p:nvSpPr>
            <p:spPr>
              <a:xfrm>
                <a:off x="6248520" y="6005160"/>
                <a:ext cx="609480" cy="299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286680" y="61826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"/>
            <p:cNvSpPr/>
            <p:nvPr/>
          </p:nvSpPr>
          <p:spPr>
            <a:xfrm>
              <a:off x="7480440" y="6068880"/>
              <a:ext cx="520560" cy="228240"/>
            </a:xfrm>
            <a:prstGeom prst="rightArrow">
              <a:avLst>
                <a:gd name="adj1" fmla="val 50000"/>
                <a:gd name="adj2" fmla="val 5701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819840" y="6094080"/>
              <a:ext cx="685800" cy="152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21520" y="5889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106480" y="5884200"/>
              <a:ext cx="55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59" name=""/>
            <p:cNvCxnSpPr>
              <a:stCxn id="903" idx="0"/>
              <a:endCxn id="922" idx="0"/>
            </p:cNvCxnSpPr>
            <p:nvPr/>
          </p:nvCxnSpPr>
          <p:spPr>
            <a:xfrm flipH="1">
              <a:off x="1042200" y="4735440"/>
              <a:ext cx="7746120" cy="379440"/>
            </a:xfrm>
            <a:prstGeom prst="bentConnector4">
              <a:avLst>
                <a:gd name="adj1" fmla="val -2951"/>
                <a:gd name="adj2" fmla="val 64767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960" name=""/>
            <p:cNvSpPr/>
            <p:nvPr/>
          </p:nvSpPr>
          <p:spPr>
            <a:xfrm>
              <a:off x="5308560" y="541620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1" name=""/>
            <p:cNvCxnSpPr/>
            <p:nvPr/>
          </p:nvCxnSpPr>
          <p:spPr>
            <a:xfrm flipH="1">
              <a:off x="1194840" y="5557320"/>
              <a:ext cx="7746120" cy="379800"/>
            </a:xfrm>
            <a:prstGeom prst="bentConnector4">
              <a:avLst>
                <a:gd name="adj1" fmla="val -5763"/>
                <a:gd name="adj2" fmla="val 64800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962" name=""/>
          <p:cNvSpPr/>
          <p:nvPr/>
        </p:nvSpPr>
        <p:spPr>
          <a:xfrm>
            <a:off x="1721880" y="6520680"/>
            <a:ext cx="69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.H.Shaikh et al: Hum.Mol.Genet.9(4) 489-501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.H.Shaikh &amp; B.S.Emanuel:Nat.Rev.Genet.2(10) 791-800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282400" y="12103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rom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410040" y="1676520"/>
            <a:ext cx="8800200" cy="48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illiams-Beuren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q11.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ader-Willi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gelman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(15)(q11.2q13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plication 15q11.2q1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q11.2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mith-Magenis syndr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7p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(17)(p11.2p11.2)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7p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George/VCF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2q11.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le infertilit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ZFa microdelet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q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le infertility AZFc microdel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q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Sindromi da geni contigu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76320" y="0"/>
            <a:ext cx="9498960" cy="7218000"/>
            <a:chOff x="76320" y="0"/>
            <a:chExt cx="9498960" cy="7218000"/>
          </a:xfrm>
        </p:grpSpPr>
        <p:pic>
          <p:nvPicPr>
            <p:cNvPr id="96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14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"/>
            <p:cNvSpPr/>
            <p:nvPr/>
          </p:nvSpPr>
          <p:spPr>
            <a:xfrm>
              <a:off x="94716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00640" y="560880"/>
              <a:ext cx="8613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 txBox="1"/>
            <p:nvPr/>
          </p:nvSpPr>
          <p:spPr>
            <a:xfrm>
              <a:off x="4423320" y="79920"/>
              <a:ext cx="5151960" cy="41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12760" y="697176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380880" y="2120760"/>
            <a:ext cx="8305920" cy="533520"/>
          </a:xfrm>
          <a:prstGeom prst="rect">
            <a:avLst/>
          </a:prstGeom>
          <a:solidFill>
            <a:srgbClr val="ff00ff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 flipH="1" rot="5374200">
            <a:off x="5144760" y="5181480"/>
            <a:ext cx="379440" cy="611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2c02"/>
              </a:gs>
              <a:gs pos="50000">
                <a:srgbClr val="ffffff"/>
              </a:gs>
              <a:gs pos="100000">
                <a:srgbClr val="fe2c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 rot="5374200">
            <a:off x="5154120" y="5524560"/>
            <a:ext cx="379440" cy="611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2c02"/>
              </a:gs>
              <a:gs pos="50000">
                <a:srgbClr val="ffffff"/>
              </a:gs>
              <a:gs pos="100000">
                <a:srgbClr val="fe2c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 rot="5374200">
            <a:off x="3835440" y="3531240"/>
            <a:ext cx="2994120" cy="610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fff02"/>
              </a:gs>
              <a:gs pos="50000">
                <a:srgbClr val="ffffff"/>
              </a:gs>
              <a:gs pos="100000">
                <a:srgbClr val="efff0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523880" y="6578640"/>
            <a:ext cx="465120" cy="123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523880" y="6462720"/>
            <a:ext cx="465120" cy="150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523880" y="6222960"/>
            <a:ext cx="465120" cy="292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523880" y="5940360"/>
            <a:ext cx="465120" cy="384120"/>
          </a:xfrm>
          <a:prstGeom prst="can">
            <a:avLst>
              <a:gd name="adj" fmla="val 18597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523880" y="5638680"/>
            <a:ext cx="465120" cy="384120"/>
          </a:xfrm>
          <a:prstGeom prst="can">
            <a:avLst>
              <a:gd name="adj" fmla="val 18597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523880" y="5416560"/>
            <a:ext cx="465120" cy="298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523880" y="5181480"/>
            <a:ext cx="465120" cy="325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523880" y="5076720"/>
            <a:ext cx="465120" cy="181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523880" y="4991040"/>
            <a:ext cx="465120" cy="150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523880" y="4699080"/>
            <a:ext cx="465120" cy="35568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523880" y="4619520"/>
            <a:ext cx="465120" cy="149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523880" y="4317840"/>
            <a:ext cx="465120" cy="355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4064040"/>
            <a:ext cx="465120" cy="355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523880" y="3809880"/>
            <a:ext cx="465120" cy="355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523880" y="3746520"/>
            <a:ext cx="465120" cy="149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50000">
                <a:srgbClr val="ffffff"/>
              </a:gs>
              <a:gs pos="100000">
                <a:srgbClr val="99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523880" y="3606840"/>
            <a:ext cx="465120" cy="174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0"/>
              </a:gs>
              <a:gs pos="5000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99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4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39304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WS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/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2"/>
          <a:stretch/>
        </p:blipFill>
        <p:spPr>
          <a:xfrm>
            <a:off x="927000" y="615960"/>
            <a:ext cx="596880" cy="1263600"/>
          </a:xfrm>
          <a:prstGeom prst="rect">
            <a:avLst/>
          </a:prstGeom>
          <a:ln w="0">
            <a:noFill/>
          </a:ln>
        </p:spPr>
      </p:pic>
      <p:grpSp>
        <p:nvGrpSpPr>
          <p:cNvPr id="1000" name=""/>
          <p:cNvGrpSpPr/>
          <p:nvPr/>
        </p:nvGrpSpPr>
        <p:grpSpPr>
          <a:xfrm>
            <a:off x="1447920" y="935640"/>
            <a:ext cx="1771560" cy="368280"/>
            <a:chOff x="1447920" y="935640"/>
            <a:chExt cx="1771560" cy="368280"/>
          </a:xfrm>
        </p:grpSpPr>
        <p:sp>
          <p:nvSpPr>
            <p:cNvPr id="1001" name=""/>
            <p:cNvSpPr/>
            <p:nvPr/>
          </p:nvSpPr>
          <p:spPr>
            <a:xfrm>
              <a:off x="1447920" y="11430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70840" y="935640"/>
              <a:ext cx="144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5q11-q1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1523880" y="2819520"/>
            <a:ext cx="470160" cy="838080"/>
            <a:chOff x="1523880" y="2819520"/>
            <a:chExt cx="470160" cy="838080"/>
          </a:xfrm>
        </p:grpSpPr>
        <p:sp>
          <p:nvSpPr>
            <p:cNvPr id="1004" name=""/>
            <p:cNvSpPr/>
            <p:nvPr/>
          </p:nvSpPr>
          <p:spPr>
            <a:xfrm>
              <a:off x="1601640" y="3351240"/>
              <a:ext cx="309600" cy="177840"/>
            </a:xfrm>
            <a:prstGeom prst="can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528920" y="2819520"/>
              <a:ext cx="465120" cy="177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528920" y="3143520"/>
              <a:ext cx="465120" cy="252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587600" y="3048120"/>
              <a:ext cx="347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587600" y="3117960"/>
              <a:ext cx="34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523880" y="3505320"/>
              <a:ext cx="46512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3366"/>
                </a:gs>
                <a:gs pos="50000">
                  <a:srgbClr val="ffffff"/>
                </a:gs>
                <a:gs pos="100000">
                  <a:srgbClr val="9933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758160" y="18500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rom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1981080" y="1828800"/>
            <a:ext cx="27432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981080" y="3657600"/>
            <a:ext cx="297180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553080" y="2717280"/>
            <a:ext cx="297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lezione 4M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~70% dei casi di PWS/AS inversione in 4/15 madri di AS dele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562720" y="1676520"/>
            <a:ext cx="609480" cy="4267080"/>
          </a:xfrm>
          <a:custGeom>
            <a:avLst/>
            <a:gdLst>
              <a:gd name="textAreaLeft" fmla="*/ 0 w 609480"/>
              <a:gd name="textAreaRight" fmla="*/ 427680 w 609480"/>
              <a:gd name="textAreaTop" fmla="*/ 177480 h 4267080"/>
              <a:gd name="textAreaBottom" fmla="*/ 408960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 rot="5374200">
            <a:off x="5155920" y="5916600"/>
            <a:ext cx="379440" cy="611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2c02"/>
              </a:gs>
              <a:gs pos="50000">
                <a:srgbClr val="ffffff"/>
              </a:gs>
              <a:gs pos="100000">
                <a:srgbClr val="fe2c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 rot="5374200">
            <a:off x="5020560" y="6572880"/>
            <a:ext cx="660240" cy="36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 rot="5374200">
            <a:off x="4986360" y="1518120"/>
            <a:ext cx="660240" cy="366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638680" y="2057400"/>
            <a:ext cx="533520" cy="3886200"/>
          </a:xfrm>
          <a:custGeom>
            <a:avLst/>
            <a:gdLst>
              <a:gd name="textAreaLeft" fmla="*/ 0 w 533520"/>
              <a:gd name="textAreaRight" fmla="*/ 374400 w 533520"/>
              <a:gd name="textAreaTop" fmla="*/ 161640 h 3886200"/>
              <a:gd name="textAreaBottom" fmla="*/ 37245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 rot="5374200">
            <a:off x="5126400" y="1585080"/>
            <a:ext cx="380880" cy="611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2c02"/>
              </a:gs>
              <a:gs pos="50000">
                <a:srgbClr val="ffffff"/>
              </a:gs>
              <a:gs pos="100000">
                <a:srgbClr val="fe2c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 rot="5374200">
            <a:off x="5128200" y="1967760"/>
            <a:ext cx="380880" cy="611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2c02"/>
              </a:gs>
              <a:gs pos="50000">
                <a:srgbClr val="ffffff"/>
              </a:gs>
              <a:gs pos="100000">
                <a:srgbClr val="fe2c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9150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940280" y="53341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02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96660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343040" y="6094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ome si originano le del/d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87280" y="1623600"/>
            <a:ext cx="25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tercromoso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3283200" y="2327760"/>
            <a:ext cx="6351120" cy="1229760"/>
            <a:chOff x="3283200" y="2327760"/>
            <a:chExt cx="6351120" cy="1229760"/>
          </a:xfrm>
        </p:grpSpPr>
        <p:sp>
          <p:nvSpPr>
            <p:cNvPr id="1032" name=""/>
            <p:cNvSpPr/>
            <p:nvPr/>
          </p:nvSpPr>
          <p:spPr>
            <a:xfrm>
              <a:off x="7845840" y="2614320"/>
              <a:ext cx="178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uplica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3" name=""/>
            <p:cNvGrpSpPr/>
            <p:nvPr/>
          </p:nvGrpSpPr>
          <p:grpSpPr>
            <a:xfrm>
              <a:off x="3283200" y="2327760"/>
              <a:ext cx="4696920" cy="1229760"/>
              <a:chOff x="3283200" y="2327760"/>
              <a:chExt cx="4696920" cy="1229760"/>
            </a:xfrm>
          </p:grpSpPr>
          <p:sp>
            <p:nvSpPr>
              <p:cNvPr id="1034" name=""/>
              <p:cNvSpPr/>
              <p:nvPr/>
            </p:nvSpPr>
            <p:spPr>
              <a:xfrm>
                <a:off x="6261120" y="3252960"/>
                <a:ext cx="245880" cy="107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052960" y="3078000"/>
                <a:ext cx="52560" cy="4446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6" name=""/>
              <p:cNvGrpSpPr/>
              <p:nvPr/>
            </p:nvGrpSpPr>
            <p:grpSpPr>
              <a:xfrm>
                <a:off x="3283200" y="2678040"/>
                <a:ext cx="3636360" cy="586800"/>
                <a:chOff x="3283200" y="2678040"/>
                <a:chExt cx="3636360" cy="58680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3570120" y="2855880"/>
                  <a:ext cx="204480" cy="896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3771360" y="2802600"/>
                  <a:ext cx="379800" cy="187920"/>
                </a:xfrm>
                <a:prstGeom prst="cube">
                  <a:avLst>
                    <a:gd name="adj" fmla="val 25000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126320" y="2855880"/>
                  <a:ext cx="1088280" cy="10656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5164560" y="2802600"/>
                  <a:ext cx="243720" cy="187920"/>
                </a:xfrm>
                <a:prstGeom prst="cube">
                  <a:avLst>
                    <a:gd name="adj" fmla="val 25000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3771360" y="2722320"/>
                  <a:ext cx="35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5214960" y="2722320"/>
                  <a:ext cx="354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3" name=""/>
                <p:cNvGrpSpPr/>
                <p:nvPr/>
              </p:nvGrpSpPr>
              <p:grpSpPr>
                <a:xfrm>
                  <a:off x="3492720" y="2678040"/>
                  <a:ext cx="102960" cy="468000"/>
                  <a:chOff x="3492720" y="2678040"/>
                  <a:chExt cx="102960" cy="468000"/>
                </a:xfrm>
              </p:grpSpPr>
              <p:sp>
                <p:nvSpPr>
                  <p:cNvPr id="1044" name=""/>
                  <p:cNvSpPr/>
                  <p:nvPr/>
                </p:nvSpPr>
                <p:spPr>
                  <a:xfrm>
                    <a:off x="3492720" y="2700360"/>
                    <a:ext cx="51840" cy="44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3543840" y="2678040"/>
                    <a:ext cx="51840" cy="44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6" name=""/>
                <p:cNvSpPr/>
                <p:nvPr/>
              </p:nvSpPr>
              <p:spPr>
                <a:xfrm>
                  <a:off x="3366000" y="2855880"/>
                  <a:ext cx="152640" cy="896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3283200" y="2896560"/>
                  <a:ext cx="48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te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8" name=""/>
                <p:cNvGrpSpPr/>
                <p:nvPr/>
              </p:nvGrpSpPr>
              <p:grpSpPr>
                <a:xfrm>
                  <a:off x="4137840" y="2884320"/>
                  <a:ext cx="978840" cy="77400"/>
                  <a:chOff x="4137840" y="2884320"/>
                  <a:chExt cx="978840" cy="7740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4137840" y="2884320"/>
                    <a:ext cx="124920" cy="7740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297320" y="2884320"/>
                    <a:ext cx="124920" cy="7740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78040" y="2884320"/>
                    <a:ext cx="124920" cy="7740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4644360" y="2884320"/>
                    <a:ext cx="124920" cy="7740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4811040" y="2884320"/>
                    <a:ext cx="124920" cy="7740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4991760" y="2884320"/>
                    <a:ext cx="124920" cy="7740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5" name=""/>
                <p:cNvSpPr/>
                <p:nvPr/>
              </p:nvSpPr>
              <p:spPr>
                <a:xfrm>
                  <a:off x="5325120" y="2801520"/>
                  <a:ext cx="203760" cy="187920"/>
                </a:xfrm>
                <a:prstGeom prst="cube">
                  <a:avLst>
                    <a:gd name="adj" fmla="val 25000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6" name=""/>
                <p:cNvGrpSpPr/>
                <p:nvPr/>
              </p:nvGrpSpPr>
              <p:grpSpPr>
                <a:xfrm>
                  <a:off x="5501520" y="2800080"/>
                  <a:ext cx="1418040" cy="187920"/>
                  <a:chOff x="5501520" y="2800080"/>
                  <a:chExt cx="1418040" cy="187920"/>
                </a:xfrm>
              </p:grpSpPr>
              <p:sp>
                <p:nvSpPr>
                  <p:cNvPr id="1057" name=""/>
                  <p:cNvSpPr/>
                  <p:nvPr/>
                </p:nvSpPr>
                <p:spPr>
                  <a:xfrm>
                    <a:off x="5501520" y="2853360"/>
                    <a:ext cx="1088280" cy="10692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6539400" y="2800080"/>
                    <a:ext cx="380160" cy="187920"/>
                  </a:xfrm>
                  <a:prstGeom prst="cube">
                    <a:avLst>
                      <a:gd name="adj" fmla="val 25000"/>
                    </a:avLst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9" name=""/>
                  <p:cNvGrpSpPr/>
                  <p:nvPr/>
                </p:nvGrpSpPr>
                <p:grpSpPr>
                  <a:xfrm>
                    <a:off x="5526360" y="2881800"/>
                    <a:ext cx="978840" cy="77760"/>
                    <a:chOff x="5526360" y="2881800"/>
                    <a:chExt cx="978840" cy="77760"/>
                  </a:xfrm>
                </p:grpSpPr>
                <p:sp>
                  <p:nvSpPr>
                    <p:cNvPr id="1060" name=""/>
                    <p:cNvSpPr/>
                    <p:nvPr/>
                  </p:nvSpPr>
                  <p:spPr>
                    <a:xfrm>
                      <a:off x="5526360" y="2881800"/>
                      <a:ext cx="124920" cy="77760"/>
                    </a:xfrm>
                    <a:prstGeom prst="irregularSeal1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>
                      <a:off x="5685840" y="2881800"/>
                      <a:ext cx="124920" cy="77760"/>
                    </a:xfrm>
                    <a:prstGeom prst="irregularSeal1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>
                      <a:off x="5866560" y="2881800"/>
                      <a:ext cx="124920" cy="77760"/>
                    </a:xfrm>
                    <a:prstGeom prst="irregularSeal1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"/>
                    <p:cNvSpPr/>
                    <p:nvPr/>
                  </p:nvSpPr>
                  <p:spPr>
                    <a:xfrm>
                      <a:off x="6032880" y="2881800"/>
                      <a:ext cx="124920" cy="77760"/>
                    </a:xfrm>
                    <a:prstGeom prst="irregularSeal1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>
                      <a:off x="6199560" y="2881800"/>
                      <a:ext cx="124920" cy="77760"/>
                    </a:xfrm>
                    <a:prstGeom prst="irregularSeal1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5" name=""/>
                    <p:cNvSpPr/>
                    <p:nvPr/>
                  </p:nvSpPr>
                  <p:spPr>
                    <a:xfrm>
                      <a:off x="6380280" y="2881800"/>
                      <a:ext cx="124920" cy="77760"/>
                    </a:xfrm>
                    <a:prstGeom prst="irregularSeal1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66" name=""/>
                <p:cNvSpPr/>
                <p:nvPr/>
              </p:nvSpPr>
              <p:spPr>
                <a:xfrm>
                  <a:off x="5298120" y="3122640"/>
                  <a:ext cx="354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6553440" y="2722320"/>
                  <a:ext cx="35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8" name=""/>
              <p:cNvSpPr/>
              <p:nvPr/>
            </p:nvSpPr>
            <p:spPr>
              <a:xfrm>
                <a:off x="7553160" y="2852640"/>
                <a:ext cx="246240" cy="108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867360" y="2855880"/>
                <a:ext cx="557280" cy="1065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0" name=""/>
              <p:cNvGrpSpPr/>
              <p:nvPr/>
            </p:nvGrpSpPr>
            <p:grpSpPr>
              <a:xfrm>
                <a:off x="7429680" y="2670120"/>
                <a:ext cx="102960" cy="468360"/>
                <a:chOff x="7429680" y="2670120"/>
                <a:chExt cx="102960" cy="46836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7429680" y="2692440"/>
                  <a:ext cx="5148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7480800" y="267012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3" name=""/>
              <p:cNvSpPr/>
              <p:nvPr/>
            </p:nvSpPr>
            <p:spPr>
              <a:xfrm>
                <a:off x="7527960" y="2759040"/>
                <a:ext cx="76320" cy="22212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5361600">
                <a:off x="5526360" y="2419920"/>
                <a:ext cx="349200" cy="166680"/>
              </a:xfrm>
              <a:custGeom>
                <a:avLst/>
                <a:gdLst>
                  <a:gd name="textAreaLeft" fmla="*/ 54360 w 349200"/>
                  <a:gd name="textAreaRight" fmla="*/ 305640 w 349200"/>
                  <a:gd name="textAreaTop" fmla="*/ 41400 h 166680"/>
                  <a:gd name="textAreaBottom" fmla="*/ 125280 h 1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03640" y="3048120"/>
                <a:ext cx="52560" cy="4442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581880" y="3158640"/>
                <a:ext cx="1398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delezio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900840" y="289404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081920" y="289404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9" name=""/>
              <p:cNvGrpSpPr/>
              <p:nvPr/>
            </p:nvGrpSpPr>
            <p:grpSpPr>
              <a:xfrm>
                <a:off x="4875120" y="3070080"/>
                <a:ext cx="1436760" cy="468360"/>
                <a:chOff x="4875120" y="3070080"/>
                <a:chExt cx="1436760" cy="468360"/>
              </a:xfrm>
            </p:grpSpPr>
            <p:grpSp>
              <p:nvGrpSpPr>
                <p:cNvPr id="1080" name=""/>
                <p:cNvGrpSpPr/>
                <p:nvPr/>
              </p:nvGrpSpPr>
              <p:grpSpPr>
                <a:xfrm>
                  <a:off x="6137280" y="3070080"/>
                  <a:ext cx="102960" cy="468360"/>
                  <a:chOff x="6137280" y="3070080"/>
                  <a:chExt cx="102960" cy="468360"/>
                </a:xfrm>
              </p:grpSpPr>
              <p:sp>
                <p:nvSpPr>
                  <p:cNvPr id="1081" name=""/>
                  <p:cNvSpPr/>
                  <p:nvPr/>
                </p:nvSpPr>
                <p:spPr>
                  <a:xfrm>
                    <a:off x="6137280" y="3092400"/>
                    <a:ext cx="51840" cy="4460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6188400" y="3070080"/>
                    <a:ext cx="51840" cy="4460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3" name=""/>
                <p:cNvGrpSpPr/>
                <p:nvPr/>
              </p:nvGrpSpPr>
              <p:grpSpPr>
                <a:xfrm>
                  <a:off x="4875120" y="3159000"/>
                  <a:ext cx="1436760" cy="231840"/>
                  <a:chOff x="4875120" y="3159000"/>
                  <a:chExt cx="1436760" cy="231840"/>
                </a:xfrm>
              </p:grpSpPr>
              <p:sp>
                <p:nvSpPr>
                  <p:cNvPr id="1084" name=""/>
                  <p:cNvSpPr/>
                  <p:nvPr/>
                </p:nvSpPr>
                <p:spPr>
                  <a:xfrm>
                    <a:off x="5078520" y="3255840"/>
                    <a:ext cx="206280" cy="9072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4875120" y="3255840"/>
                    <a:ext cx="152640" cy="9072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5248440" y="3201840"/>
                    <a:ext cx="244440" cy="189000"/>
                  </a:xfrm>
                  <a:prstGeom prst="cube">
                    <a:avLst>
                      <a:gd name="adj" fmla="val 25000"/>
                    </a:avLst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5408640" y="3201840"/>
                    <a:ext cx="204840" cy="187560"/>
                  </a:xfrm>
                  <a:prstGeom prst="cube">
                    <a:avLst>
                      <a:gd name="adj" fmla="val 25000"/>
                    </a:avLst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5575320" y="3255840"/>
                    <a:ext cx="557280" cy="10656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08080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6235560" y="3159000"/>
                    <a:ext cx="76320" cy="223920"/>
                  </a:xfrm>
                  <a:prstGeom prst="ellipse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5638680" y="3274920"/>
                    <a:ext cx="12564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5819760" y="3274920"/>
                    <a:ext cx="12528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105520" y="3276720"/>
                    <a:ext cx="125280" cy="77760"/>
                  </a:xfrm>
                  <a:prstGeom prst="irregularSeal1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93" name=""/>
              <p:cNvSpPr/>
              <p:nvPr/>
            </p:nvSpPr>
            <p:spPr>
              <a:xfrm>
                <a:off x="3613320" y="287640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4" name=""/>
          <p:cNvGrpSpPr/>
          <p:nvPr/>
        </p:nvGrpSpPr>
        <p:grpSpPr>
          <a:xfrm>
            <a:off x="3198960" y="1316520"/>
            <a:ext cx="4543200" cy="1109160"/>
            <a:chOff x="3198960" y="1316520"/>
            <a:chExt cx="4543200" cy="1109160"/>
          </a:xfrm>
        </p:grpSpPr>
        <p:sp>
          <p:nvSpPr>
            <p:cNvPr id="1095" name=""/>
            <p:cNvSpPr/>
            <p:nvPr/>
          </p:nvSpPr>
          <p:spPr>
            <a:xfrm>
              <a:off x="7496280" y="2133720"/>
              <a:ext cx="245880" cy="1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862520" y="2136600"/>
              <a:ext cx="204840" cy="88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064120" y="2082960"/>
              <a:ext cx="379440" cy="18720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418000" y="2136600"/>
              <a:ext cx="1089000" cy="106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456240" y="2082960"/>
              <a:ext cx="381240" cy="187200"/>
            </a:xfrm>
            <a:prstGeom prst="cube">
              <a:avLst>
                <a:gd name="adj" fmla="val 25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11920" y="2136600"/>
              <a:ext cx="557280" cy="106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7372440" y="1951200"/>
              <a:ext cx="102960" cy="468000"/>
              <a:chOff x="7372440" y="1951200"/>
              <a:chExt cx="102960" cy="468000"/>
            </a:xfrm>
          </p:grpSpPr>
          <p:sp>
            <p:nvSpPr>
              <p:cNvPr id="1102" name=""/>
              <p:cNvSpPr/>
              <p:nvPr/>
            </p:nvSpPr>
            <p:spPr>
              <a:xfrm>
                <a:off x="7372440" y="1973520"/>
                <a:ext cx="51480" cy="4456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423560" y="1951200"/>
                <a:ext cx="51840" cy="4456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4" name=""/>
            <p:cNvSpPr/>
            <p:nvPr/>
          </p:nvSpPr>
          <p:spPr>
            <a:xfrm>
              <a:off x="7470720" y="2039760"/>
              <a:ext cx="76320" cy="22248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4784760" y="1957320"/>
              <a:ext cx="102960" cy="468360"/>
              <a:chOff x="4784760" y="1957320"/>
              <a:chExt cx="102960" cy="468360"/>
            </a:xfrm>
          </p:grpSpPr>
          <p:sp>
            <p:nvSpPr>
              <p:cNvPr id="1106" name=""/>
              <p:cNvSpPr/>
              <p:nvPr/>
            </p:nvSpPr>
            <p:spPr>
              <a:xfrm>
                <a:off x="4784760" y="197964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835880" y="195732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8" name=""/>
            <p:cNvSpPr/>
            <p:nvPr/>
          </p:nvSpPr>
          <p:spPr>
            <a:xfrm>
              <a:off x="4657680" y="2136600"/>
              <a:ext cx="154080" cy="88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121440" y="1725480"/>
              <a:ext cx="245880" cy="106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86240" y="1727280"/>
              <a:ext cx="206280" cy="90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87840" y="1674720"/>
              <a:ext cx="380880" cy="187560"/>
            </a:xfrm>
            <a:prstGeom prst="cube">
              <a:avLst>
                <a:gd name="adj" fmla="val 25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43520" y="1727280"/>
              <a:ext cx="1089000" cy="1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081760" y="1674720"/>
              <a:ext cx="380880" cy="187560"/>
            </a:xfrm>
            <a:prstGeom prst="cube">
              <a:avLst>
                <a:gd name="adj" fmla="val 25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435640" y="1727280"/>
              <a:ext cx="557280" cy="1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87840" y="15937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132520" y="159372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" name=""/>
            <p:cNvGrpSpPr/>
            <p:nvPr/>
          </p:nvGrpSpPr>
          <p:grpSpPr>
            <a:xfrm>
              <a:off x="5997600" y="1542960"/>
              <a:ext cx="102960" cy="468360"/>
              <a:chOff x="5997600" y="1542960"/>
              <a:chExt cx="102960" cy="468360"/>
            </a:xfrm>
          </p:grpSpPr>
          <p:sp>
            <p:nvSpPr>
              <p:cNvPr id="1118" name=""/>
              <p:cNvSpPr/>
              <p:nvPr/>
            </p:nvSpPr>
            <p:spPr>
              <a:xfrm>
                <a:off x="5997600" y="156528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48720" y="154296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6095880" y="1631880"/>
              <a:ext cx="76320" cy="22248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3409920" y="1549440"/>
              <a:ext cx="102960" cy="468360"/>
              <a:chOff x="3409920" y="1549440"/>
              <a:chExt cx="102960" cy="468360"/>
            </a:xfrm>
          </p:grpSpPr>
          <p:sp>
            <p:nvSpPr>
              <p:cNvPr id="1122" name=""/>
              <p:cNvSpPr/>
              <p:nvPr/>
            </p:nvSpPr>
            <p:spPr>
              <a:xfrm>
                <a:off x="3409920" y="157176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461040" y="154944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4" name=""/>
            <p:cNvSpPr/>
            <p:nvPr/>
          </p:nvSpPr>
          <p:spPr>
            <a:xfrm>
              <a:off x="3282840" y="1727280"/>
              <a:ext cx="152640" cy="90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198960" y="176760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24960" y="13165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075280" y="1854360"/>
              <a:ext cx="333360" cy="271440"/>
            </a:xfrm>
            <a:prstGeom prst="flowChartCollat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8" name=""/>
            <p:cNvGrpSpPr/>
            <p:nvPr/>
          </p:nvGrpSpPr>
          <p:grpSpPr>
            <a:xfrm>
              <a:off x="4054320" y="1755720"/>
              <a:ext cx="979560" cy="77760"/>
              <a:chOff x="4054320" y="1755720"/>
              <a:chExt cx="979560" cy="77760"/>
            </a:xfrm>
          </p:grpSpPr>
          <p:sp>
            <p:nvSpPr>
              <p:cNvPr id="1129" name=""/>
              <p:cNvSpPr/>
              <p:nvPr/>
            </p:nvSpPr>
            <p:spPr>
              <a:xfrm>
                <a:off x="4054320" y="175572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214160" y="175572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394520" y="175572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561200" y="175572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728240" y="175572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908960" y="175572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5443560" y="2165400"/>
              <a:ext cx="979560" cy="77760"/>
              <a:chOff x="5443560" y="2165400"/>
              <a:chExt cx="979560" cy="77760"/>
            </a:xfrm>
          </p:grpSpPr>
          <p:sp>
            <p:nvSpPr>
              <p:cNvPr id="1136" name=""/>
              <p:cNvSpPr/>
              <p:nvPr/>
            </p:nvSpPr>
            <p:spPr>
              <a:xfrm>
                <a:off x="5443560" y="216540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603400" y="216540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783760" y="216540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950440" y="216540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117480" y="216540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298200" y="2165400"/>
                <a:ext cx="12492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"/>
            <p:cNvSpPr/>
            <p:nvPr/>
          </p:nvSpPr>
          <p:spPr>
            <a:xfrm>
              <a:off x="5484960" y="175248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665680" y="1752480"/>
              <a:ext cx="12564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829560" y="216540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010280" y="2165400"/>
              <a:ext cx="12564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908600" y="213984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24400" y="173988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4343400" y="4343400"/>
            <a:ext cx="3084480" cy="474840"/>
            <a:chOff x="4343400" y="4343400"/>
            <a:chExt cx="3084480" cy="474840"/>
          </a:xfrm>
        </p:grpSpPr>
        <p:sp>
          <p:nvSpPr>
            <p:cNvPr id="1149" name=""/>
            <p:cNvSpPr/>
            <p:nvPr/>
          </p:nvSpPr>
          <p:spPr>
            <a:xfrm>
              <a:off x="7182000" y="4525920"/>
              <a:ext cx="245880" cy="106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546440" y="4527720"/>
              <a:ext cx="206640" cy="90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748040" y="4475160"/>
              <a:ext cx="381240" cy="187200"/>
            </a:xfrm>
            <a:prstGeom prst="cube">
              <a:avLst>
                <a:gd name="adj" fmla="val 25000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103720" y="4527720"/>
              <a:ext cx="1089000" cy="107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141960" y="4475160"/>
              <a:ext cx="381240" cy="187200"/>
            </a:xfrm>
            <a:prstGeom prst="cube">
              <a:avLst>
                <a:gd name="adj" fmla="val 25000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496200" y="4527720"/>
              <a:ext cx="556920" cy="107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748040" y="439416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192720" y="439416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7" name=""/>
            <p:cNvGrpSpPr/>
            <p:nvPr/>
          </p:nvGrpSpPr>
          <p:grpSpPr>
            <a:xfrm>
              <a:off x="7058160" y="4343400"/>
              <a:ext cx="102960" cy="468360"/>
              <a:chOff x="7058160" y="4343400"/>
              <a:chExt cx="102960" cy="468360"/>
            </a:xfrm>
          </p:grpSpPr>
          <p:sp>
            <p:nvSpPr>
              <p:cNvPr id="1158" name=""/>
              <p:cNvSpPr/>
              <p:nvPr/>
            </p:nvSpPr>
            <p:spPr>
              <a:xfrm>
                <a:off x="7058160" y="4365720"/>
                <a:ext cx="5148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109280" y="434340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0" name=""/>
            <p:cNvSpPr/>
            <p:nvPr/>
          </p:nvSpPr>
          <p:spPr>
            <a:xfrm>
              <a:off x="7156440" y="4432320"/>
              <a:ext cx="76320" cy="22212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1" name=""/>
            <p:cNvGrpSpPr/>
            <p:nvPr/>
          </p:nvGrpSpPr>
          <p:grpSpPr>
            <a:xfrm>
              <a:off x="4470480" y="4349880"/>
              <a:ext cx="102960" cy="468360"/>
              <a:chOff x="4470480" y="4349880"/>
              <a:chExt cx="102960" cy="468360"/>
            </a:xfrm>
          </p:grpSpPr>
          <p:sp>
            <p:nvSpPr>
              <p:cNvPr id="1162" name=""/>
              <p:cNvSpPr/>
              <p:nvPr/>
            </p:nvSpPr>
            <p:spPr>
              <a:xfrm>
                <a:off x="4470480" y="4372200"/>
                <a:ext cx="5148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521600" y="434988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4343400" y="4527720"/>
              <a:ext cx="152280" cy="90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114880" y="4556160"/>
              <a:ext cx="125280" cy="7776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275440" y="4556160"/>
              <a:ext cx="123480" cy="7776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54720" y="4556160"/>
              <a:ext cx="125280" cy="7776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621400" y="455616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788080" y="455616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69160" y="455616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534000" y="4552920"/>
              <a:ext cx="12564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715080" y="455292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584600" y="4546440"/>
              <a:ext cx="125640" cy="7812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685800" y="373392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84760" y="3997080"/>
            <a:ext cx="25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tracromoso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4952880" y="4948200"/>
            <a:ext cx="1646280" cy="1111320"/>
            <a:chOff x="4952880" y="4948200"/>
            <a:chExt cx="1646280" cy="1111320"/>
          </a:xfrm>
        </p:grpSpPr>
        <p:sp>
          <p:nvSpPr>
            <p:cNvPr id="1177" name=""/>
            <p:cNvSpPr/>
            <p:nvPr/>
          </p:nvSpPr>
          <p:spPr>
            <a:xfrm rot="5460600">
              <a:off x="5164560" y="5067720"/>
              <a:ext cx="763560" cy="53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16" y="974"/>
                    <a:pt x="5431" y="5080"/>
                    <a:pt x="5431" y="10800"/>
                  </a:cubicBezTo>
                  <a:cubicBezTo>
                    <a:pt x="5431" y="16520"/>
                    <a:pt x="13516" y="2062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rot="5301600">
              <a:off x="5579640" y="5346360"/>
              <a:ext cx="316080" cy="154080"/>
            </a:xfrm>
            <a:prstGeom prst="cube">
              <a:avLst>
                <a:gd name="adj" fmla="val 25000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rot="5301600">
              <a:off x="5198400" y="5354640"/>
              <a:ext cx="316080" cy="153720"/>
            </a:xfrm>
            <a:prstGeom prst="cube">
              <a:avLst>
                <a:gd name="adj" fmla="val 2500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03800" y="5265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889600" y="5265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rot="5534400">
              <a:off x="5221440" y="5628240"/>
              <a:ext cx="206280" cy="90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rot="5534400">
              <a:off x="5640480" y="5628240"/>
              <a:ext cx="206280" cy="90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353280" y="5767560"/>
              <a:ext cx="245880" cy="1062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156280" y="5769000"/>
              <a:ext cx="206280" cy="90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699160" y="5769000"/>
              <a:ext cx="557280" cy="1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7" name=""/>
            <p:cNvGrpSpPr/>
            <p:nvPr/>
          </p:nvGrpSpPr>
          <p:grpSpPr>
            <a:xfrm>
              <a:off x="6229440" y="5584680"/>
              <a:ext cx="102960" cy="468360"/>
              <a:chOff x="6229440" y="5584680"/>
              <a:chExt cx="102960" cy="468360"/>
            </a:xfrm>
          </p:grpSpPr>
          <p:sp>
            <p:nvSpPr>
              <p:cNvPr id="1188" name=""/>
              <p:cNvSpPr/>
              <p:nvPr/>
            </p:nvSpPr>
            <p:spPr>
              <a:xfrm>
                <a:off x="6229440" y="5607000"/>
                <a:ext cx="5148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280560" y="558468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>
              <a:off x="6327720" y="5673600"/>
              <a:ext cx="76320" cy="22248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1" name=""/>
            <p:cNvGrpSpPr/>
            <p:nvPr/>
          </p:nvGrpSpPr>
          <p:grpSpPr>
            <a:xfrm>
              <a:off x="5079960" y="5591160"/>
              <a:ext cx="102960" cy="468360"/>
              <a:chOff x="5079960" y="5591160"/>
              <a:chExt cx="102960" cy="468360"/>
            </a:xfrm>
          </p:grpSpPr>
          <p:sp>
            <p:nvSpPr>
              <p:cNvPr id="1192" name=""/>
              <p:cNvSpPr/>
              <p:nvPr/>
            </p:nvSpPr>
            <p:spPr>
              <a:xfrm>
                <a:off x="5079960" y="561348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131080" y="559116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4" name=""/>
            <p:cNvSpPr/>
            <p:nvPr/>
          </p:nvSpPr>
          <p:spPr>
            <a:xfrm>
              <a:off x="4952880" y="5769000"/>
              <a:ext cx="152640" cy="90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03800" y="579924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708520" y="5799240"/>
              <a:ext cx="12564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889600" y="579924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5179200">
              <a:off x="5419440" y="5310000"/>
              <a:ext cx="228600" cy="228600"/>
            </a:xfrm>
            <a:prstGeom prst="flowChartCollat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418000" y="5003640"/>
              <a:ext cx="125640" cy="7812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581800" y="507996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613480" y="518004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334120" y="5181480"/>
              <a:ext cx="125280" cy="7776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372280" y="5092560"/>
              <a:ext cx="125280" cy="7776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549760" y="4989600"/>
              <a:ext cx="12564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1371240" y="5105520"/>
            <a:ext cx="3886200" cy="533160"/>
            <a:chOff x="1371240" y="5105520"/>
            <a:chExt cx="3886200" cy="533160"/>
          </a:xfrm>
        </p:grpSpPr>
        <p:sp>
          <p:nvSpPr>
            <p:cNvPr id="1206" name=""/>
            <p:cNvSpPr/>
            <p:nvPr/>
          </p:nvSpPr>
          <p:spPr>
            <a:xfrm flipH="1">
              <a:off x="1371240" y="5105520"/>
              <a:ext cx="3886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10552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352680" y="51055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257400" y="5715000"/>
            <a:ext cx="1817640" cy="955800"/>
            <a:chOff x="257400" y="5715000"/>
            <a:chExt cx="1817640" cy="955800"/>
          </a:xfrm>
        </p:grpSpPr>
        <p:grpSp>
          <p:nvGrpSpPr>
            <p:cNvPr id="1210" name=""/>
            <p:cNvGrpSpPr/>
            <p:nvPr/>
          </p:nvGrpSpPr>
          <p:grpSpPr>
            <a:xfrm>
              <a:off x="1600200" y="5715000"/>
              <a:ext cx="102960" cy="468360"/>
              <a:chOff x="1600200" y="5715000"/>
              <a:chExt cx="102960" cy="468360"/>
            </a:xfrm>
          </p:grpSpPr>
          <p:sp>
            <p:nvSpPr>
              <p:cNvPr id="1211" name=""/>
              <p:cNvSpPr/>
              <p:nvPr/>
            </p:nvSpPr>
            <p:spPr>
              <a:xfrm>
                <a:off x="1600200" y="573732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651320" y="571500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3" name=""/>
            <p:cNvSpPr/>
            <p:nvPr/>
          </p:nvSpPr>
          <p:spPr>
            <a:xfrm>
              <a:off x="584280" y="5900760"/>
              <a:ext cx="206280" cy="90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80880" y="5900760"/>
              <a:ext cx="152640" cy="90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754200" y="5846760"/>
              <a:ext cx="365040" cy="189000"/>
              <a:chOff x="754200" y="5846760"/>
              <a:chExt cx="365040" cy="189000"/>
            </a:xfrm>
          </p:grpSpPr>
          <p:sp>
            <p:nvSpPr>
              <p:cNvPr id="1216" name=""/>
              <p:cNvSpPr/>
              <p:nvPr/>
            </p:nvSpPr>
            <p:spPr>
              <a:xfrm>
                <a:off x="754200" y="5846760"/>
                <a:ext cx="244440" cy="1890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914400" y="5846760"/>
                <a:ext cx="204840" cy="1872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>
              <a:off x="1081080" y="5900760"/>
              <a:ext cx="557280" cy="1062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741320" y="5803920"/>
              <a:ext cx="76320" cy="22392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144440" y="5919840"/>
              <a:ext cx="12564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325520" y="591984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1280" y="592128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3" name=""/>
            <p:cNvGrpSpPr/>
            <p:nvPr/>
          </p:nvGrpSpPr>
          <p:grpSpPr>
            <a:xfrm>
              <a:off x="506520" y="5715000"/>
              <a:ext cx="102960" cy="468360"/>
              <a:chOff x="506520" y="5715000"/>
              <a:chExt cx="102960" cy="468360"/>
            </a:xfrm>
          </p:grpSpPr>
          <p:sp>
            <p:nvSpPr>
              <p:cNvPr id="1224" name=""/>
              <p:cNvSpPr/>
              <p:nvPr/>
            </p:nvSpPr>
            <p:spPr>
              <a:xfrm>
                <a:off x="506520" y="5737320"/>
                <a:ext cx="5148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57640" y="5715000"/>
                <a:ext cx="51840" cy="4460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6" name=""/>
            <p:cNvSpPr/>
            <p:nvPr/>
          </p:nvSpPr>
          <p:spPr>
            <a:xfrm>
              <a:off x="1828800" y="5905440"/>
              <a:ext cx="246240" cy="1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57400" y="6271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ele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2129040" y="5562720"/>
            <a:ext cx="2895120" cy="1119240"/>
            <a:chOff x="2129040" y="5562720"/>
            <a:chExt cx="2895120" cy="1119240"/>
          </a:xfrm>
        </p:grpSpPr>
        <p:sp>
          <p:nvSpPr>
            <p:cNvPr id="1229" name=""/>
            <p:cNvSpPr/>
            <p:nvPr/>
          </p:nvSpPr>
          <p:spPr>
            <a:xfrm>
              <a:off x="3048120" y="5562720"/>
              <a:ext cx="533160" cy="685800"/>
            </a:xfrm>
            <a:prstGeom prst="donut">
              <a:avLst>
                <a:gd name="adj" fmla="val 13888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3162240" y="6019920"/>
              <a:ext cx="365040" cy="228240"/>
              <a:chOff x="3162240" y="6019920"/>
              <a:chExt cx="365040" cy="228240"/>
            </a:xfrm>
          </p:grpSpPr>
          <p:sp>
            <p:nvSpPr>
              <p:cNvPr id="1231" name=""/>
              <p:cNvSpPr/>
              <p:nvPr/>
            </p:nvSpPr>
            <p:spPr>
              <a:xfrm>
                <a:off x="3162240" y="6019920"/>
                <a:ext cx="244440" cy="2282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322440" y="6019920"/>
                <a:ext cx="204840" cy="22608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3" name=""/>
            <p:cNvSpPr/>
            <p:nvPr/>
          </p:nvSpPr>
          <p:spPr>
            <a:xfrm>
              <a:off x="3124080" y="5638680"/>
              <a:ext cx="125640" cy="7776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460680" y="5715000"/>
              <a:ext cx="12564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467160" y="5886360"/>
              <a:ext cx="12528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048120" y="5943600"/>
              <a:ext cx="125280" cy="7776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048120" y="5791320"/>
              <a:ext cx="125280" cy="77760"/>
            </a:xfrm>
            <a:prstGeom prst="irregularSeal1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21000" y="5562720"/>
              <a:ext cx="125640" cy="777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129040" y="6283080"/>
              <a:ext cx="28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rammento acentr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6095880" y="5181480"/>
            <a:ext cx="3431880" cy="1957680"/>
            <a:chOff x="6095880" y="5181480"/>
            <a:chExt cx="3431880" cy="1957680"/>
          </a:xfrm>
        </p:grpSpPr>
        <p:grpSp>
          <p:nvGrpSpPr>
            <p:cNvPr id="1241" name=""/>
            <p:cNvGrpSpPr/>
            <p:nvPr/>
          </p:nvGrpSpPr>
          <p:grpSpPr>
            <a:xfrm>
              <a:off x="6248520" y="6248520"/>
              <a:ext cx="3279240" cy="890640"/>
              <a:chOff x="6248520" y="6248520"/>
              <a:chExt cx="3279240" cy="890640"/>
            </a:xfrm>
          </p:grpSpPr>
          <p:sp>
            <p:nvSpPr>
              <p:cNvPr id="1242" name=""/>
              <p:cNvSpPr/>
              <p:nvPr/>
            </p:nvSpPr>
            <p:spPr>
              <a:xfrm>
                <a:off x="6647040" y="6373800"/>
                <a:ext cx="204480" cy="1872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818400" y="6375240"/>
                <a:ext cx="204840" cy="1875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008840" y="6432480"/>
                <a:ext cx="1089000" cy="108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043840" y="6381720"/>
                <a:ext cx="204840" cy="1872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9086760" y="6431040"/>
                <a:ext cx="246240" cy="1062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451560" y="6432480"/>
                <a:ext cx="206280" cy="907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8204040" y="6380280"/>
                <a:ext cx="223920" cy="1872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8400960" y="6432480"/>
                <a:ext cx="557280" cy="108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0" name=""/>
              <p:cNvGrpSpPr/>
              <p:nvPr/>
            </p:nvGrpSpPr>
            <p:grpSpPr>
              <a:xfrm>
                <a:off x="8962920" y="6248520"/>
                <a:ext cx="102960" cy="468360"/>
                <a:chOff x="8962920" y="6248520"/>
                <a:chExt cx="102960" cy="4683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8962920" y="627084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9014040" y="624852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9061560" y="6337440"/>
                <a:ext cx="75960" cy="222120"/>
              </a:xfrm>
              <a:prstGeom prst="ellipse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4" name=""/>
              <p:cNvGrpSpPr/>
              <p:nvPr/>
            </p:nvGrpSpPr>
            <p:grpSpPr>
              <a:xfrm>
                <a:off x="6375240" y="6254640"/>
                <a:ext cx="102960" cy="468360"/>
                <a:chOff x="6375240" y="6254640"/>
                <a:chExt cx="102960" cy="46836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6375240" y="627696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6426360" y="6254640"/>
                  <a:ext cx="51840" cy="44604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7" name=""/>
              <p:cNvSpPr/>
              <p:nvPr/>
            </p:nvSpPr>
            <p:spPr>
              <a:xfrm>
                <a:off x="6248520" y="6432480"/>
                <a:ext cx="152280" cy="907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020000" y="646128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180200" y="6461280"/>
                <a:ext cx="1238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359480" y="6461280"/>
                <a:ext cx="12564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526160" y="6461280"/>
                <a:ext cx="1256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693200" y="6461280"/>
                <a:ext cx="12528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873920" y="6461280"/>
                <a:ext cx="125640" cy="77760"/>
              </a:xfrm>
              <a:prstGeom prst="irregularSeal1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8439120" y="645804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8620200" y="645804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489720" y="6451560"/>
                <a:ext cx="125280" cy="7776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321960" y="674028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inversione paracentric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>
              <a:off x="6095880" y="5181480"/>
              <a:ext cx="160020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1219320"/>
            <a:ext cx="8077320" cy="13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onggang J, Evan E. Eichler, Stuart Schwartz, and Robert D. Nicho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ucture of Chromosomal Duplicons and their Role in Mediating Human Genomic Dis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enome Research Vol. 10, Issue 5, 597-610, May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819520"/>
            <a:ext cx="868680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alysis of long stretches of available sequence from human chromosomes 22 and X suggest that 5%-10% of the genome may be duplicated (Mazzarella and Schlessinger 1998; Dunham et al. 1999). Sequence homology between duplicated DNA segments provides a chance for misalignment during meiosis, leading to unequal exchange and chromosome rearrangement, by either inter- or intrachromosomal or sister chromatid homologous recombination.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fe2c02"/>
                </a:solidFill>
                <a:latin typeface="Comic Sans MS"/>
              </a:rPr>
              <a:t>This process with divergence between duplicated segments is essential to the generation of diversity and new genes over evolutionary time, although the more typical, short-term effect is genetic dis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6320" y="0"/>
            <a:ext cx="9651600" cy="7203960"/>
            <a:chOff x="76320" y="0"/>
            <a:chExt cx="9651600" cy="7203960"/>
          </a:xfrm>
        </p:grpSpPr>
        <p:pic>
          <p:nvPicPr>
            <p:cNvPr id="6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7364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98100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12160" y="559800"/>
              <a:ext cx="8751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4493160" y="79920"/>
              <a:ext cx="523476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420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Genome Research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5960" y="2095200"/>
            <a:ext cx="795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E’ la logica :le esigenze dei molti contano di piu’ di quelle  dei pochi o di u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33520" y="4267080"/>
            <a:ext cx="8003520" cy="2546640"/>
            <a:chOff x="533520" y="4267080"/>
            <a:chExt cx="8003520" cy="254664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533520" y="4267080"/>
              <a:ext cx="2182680" cy="25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503880" y="5028480"/>
              <a:ext cx="50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Handwriting"/>
                </a:rPr>
                <a:t>Mr.Spock: Star Trek : L’ira di Kh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76320" y="0"/>
            <a:ext cx="9562680" cy="7203960"/>
            <a:chOff x="76320" y="0"/>
            <a:chExt cx="9562680" cy="7203960"/>
          </a:xfrm>
        </p:grpSpPr>
        <p:pic>
          <p:nvPicPr>
            <p:cNvPr id="79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6644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959400" y="1231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5680" y="559800"/>
              <a:ext cx="8671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4452480" y="79920"/>
              <a:ext cx="5186520" cy="41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120" y="695772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93560" y="1398600"/>
            <a:ext cx="8077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Grande"/>
              </a:rPr>
              <a:t>P.Stankiewicz and J.R.Lup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Genom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, rearrangements and  genomic dis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Grande"/>
              </a:rPr>
              <a:t>TRENDS in Genetics Vol. 18: 74-82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6360" y="3209760"/>
            <a:ext cx="8076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89320" y="3025800"/>
            <a:ext cx="196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85080" y="3411360"/>
            <a:ext cx="39927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enomic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08200" y="4419720"/>
            <a:ext cx="4853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Mendeli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Contiguous gene syndro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Chromosom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9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Trends in Genetics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89320" y="3025800"/>
            <a:ext cx="196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9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Disordini genom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7080" y="914400"/>
            <a:ext cx="965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l fenotipo clinico e’ conseguenza di alterato dosaggio genico di un gene o piu’ localizzati all’interno di segmenti genomici riarrangi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48200" y="5834880"/>
            <a:ext cx="9038520" cy="1184400"/>
            <a:chOff x="448200" y="5834880"/>
            <a:chExt cx="9038520" cy="1184400"/>
          </a:xfrm>
        </p:grpSpPr>
        <p:grpSp>
          <p:nvGrpSpPr>
            <p:cNvPr id="106" name=""/>
            <p:cNvGrpSpPr/>
            <p:nvPr/>
          </p:nvGrpSpPr>
          <p:grpSpPr>
            <a:xfrm>
              <a:off x="448200" y="6013800"/>
              <a:ext cx="6104520" cy="347760"/>
              <a:chOff x="448200" y="6013800"/>
              <a:chExt cx="6104520" cy="347760"/>
            </a:xfrm>
          </p:grpSpPr>
          <p:sp>
            <p:nvSpPr>
              <p:cNvPr id="107" name=""/>
              <p:cNvSpPr/>
              <p:nvPr/>
            </p:nvSpPr>
            <p:spPr>
              <a:xfrm rot="5394000">
                <a:off x="4005360" y="3800520"/>
                <a:ext cx="329400" cy="4763880"/>
              </a:xfrm>
              <a:prstGeom prst="can">
                <a:avLst>
                  <a:gd name="adj" fmla="val 517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6257000">
                <a:off x="844560" y="5628960"/>
                <a:ext cx="329400" cy="1117080"/>
              </a:xfrm>
              <a:prstGeom prst="can">
                <a:avLst>
                  <a:gd name="adj" fmla="val 1280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2139840" y="6020640"/>
                <a:ext cx="1150560" cy="327960"/>
                <a:chOff x="2139840" y="6020640"/>
                <a:chExt cx="1150560" cy="3279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139840" y="6020640"/>
                  <a:ext cx="245880" cy="3279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029400" y="6020640"/>
                  <a:ext cx="261000" cy="32796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" name=""/>
                <p:cNvGrpSpPr/>
                <p:nvPr/>
              </p:nvGrpSpPr>
              <p:grpSpPr>
                <a:xfrm>
                  <a:off x="2418120" y="6135480"/>
                  <a:ext cx="561240" cy="130320"/>
                  <a:chOff x="2418120" y="6135480"/>
                  <a:chExt cx="561240" cy="1303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2418120" y="6137640"/>
                    <a:ext cx="79560" cy="12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2580480" y="6135480"/>
                    <a:ext cx="79920" cy="12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2736720" y="6137640"/>
                    <a:ext cx="79560" cy="12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2899440" y="6135480"/>
                    <a:ext cx="79920" cy="12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7" name=""/>
              <p:cNvSpPr/>
              <p:nvPr/>
            </p:nvSpPr>
            <p:spPr>
              <a:xfrm rot="5568000">
                <a:off x="1584000" y="6077160"/>
                <a:ext cx="196560" cy="222480"/>
              </a:xfrm>
              <a:prstGeom prst="can">
                <a:avLst>
                  <a:gd name="adj" fmla="val 1905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55040" y="6024600"/>
                <a:ext cx="122400" cy="3283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909960" y="6024600"/>
                <a:ext cx="261360" cy="3283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3314520" y="6139800"/>
                <a:ext cx="561240" cy="130320"/>
                <a:chOff x="3314520" y="6139800"/>
                <a:chExt cx="561240" cy="1303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314520" y="6141960"/>
                  <a:ext cx="79560" cy="128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476880" y="6139800"/>
                  <a:ext cx="79920" cy="128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633120" y="6141960"/>
                  <a:ext cx="79560" cy="128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795840" y="6139800"/>
                  <a:ext cx="79920" cy="128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1340640" y="6671880"/>
              <a:ext cx="2974320" cy="347400"/>
              <a:chOff x="1340640" y="6671880"/>
              <a:chExt cx="2974320" cy="347400"/>
            </a:xfrm>
          </p:grpSpPr>
          <p:sp>
            <p:nvSpPr>
              <p:cNvPr id="126" name=""/>
              <p:cNvSpPr/>
              <p:nvPr/>
            </p:nvSpPr>
            <p:spPr>
              <a:xfrm rot="5394000">
                <a:off x="3326040" y="6017400"/>
                <a:ext cx="329040" cy="1647360"/>
              </a:xfrm>
              <a:prstGeom prst="can">
                <a:avLst>
                  <a:gd name="adj" fmla="val 517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6257000">
                <a:off x="1737000" y="6287040"/>
                <a:ext cx="329040" cy="1116720"/>
              </a:xfrm>
              <a:prstGeom prst="can">
                <a:avLst>
                  <a:gd name="adj" fmla="val 1280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32280" y="6678360"/>
                <a:ext cx="246240" cy="3276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162240" y="6678360"/>
                <a:ext cx="150120" cy="3276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5568000">
                <a:off x="2476080" y="6734520"/>
                <a:ext cx="196560" cy="222480"/>
              </a:xfrm>
              <a:prstGeom prst="can">
                <a:avLst>
                  <a:gd name="adj" fmla="val 1905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6822000" y="5834880"/>
              <a:ext cx="26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osoma duplic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60120" y="65444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osoma dele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-10080" y="2181600"/>
            <a:ext cx="985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instabilita’ di alcune regioni genomiche e’ dovuta alla presenza di low 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peats: duplicazioni segmentali/duplic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4920" y="3207960"/>
            <a:ext cx="9496800" cy="2304360"/>
            <a:chOff x="214920" y="3207960"/>
            <a:chExt cx="9496800" cy="2304360"/>
          </a:xfrm>
        </p:grpSpPr>
        <p:sp>
          <p:nvSpPr>
            <p:cNvPr id="135" name=""/>
            <p:cNvSpPr/>
            <p:nvPr/>
          </p:nvSpPr>
          <p:spPr>
            <a:xfrm>
              <a:off x="6477120" y="3522600"/>
              <a:ext cx="761760" cy="304920"/>
            </a:xfrm>
            <a:prstGeom prst="rect">
              <a:avLst/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14920" y="4488120"/>
              <a:ext cx="4241160" cy="349200"/>
              <a:chOff x="214920" y="4488120"/>
              <a:chExt cx="4241160" cy="349200"/>
            </a:xfrm>
          </p:grpSpPr>
          <p:sp>
            <p:nvSpPr>
              <p:cNvPr id="137" name=""/>
              <p:cNvSpPr/>
              <p:nvPr/>
            </p:nvSpPr>
            <p:spPr>
              <a:xfrm rot="5394000">
                <a:off x="2841480" y="3212280"/>
                <a:ext cx="330480" cy="2897280"/>
              </a:xfrm>
              <a:prstGeom prst="can">
                <a:avLst>
                  <a:gd name="adj" fmla="val 517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6257000">
                <a:off x="610200" y="4104360"/>
                <a:ext cx="330840" cy="1116720"/>
              </a:xfrm>
              <a:prstGeom prst="can">
                <a:avLst>
                  <a:gd name="adj" fmla="val 1280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568000">
                <a:off x="1347840" y="4548600"/>
                <a:ext cx="197640" cy="222480"/>
              </a:xfrm>
              <a:prstGeom prst="can">
                <a:avLst>
                  <a:gd name="adj" fmla="val 1905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92520" y="4495680"/>
                <a:ext cx="259920" cy="3290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796120" y="4495680"/>
                <a:ext cx="284760" cy="3290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84840" y="4610520"/>
                <a:ext cx="561240" cy="130680"/>
                <a:chOff x="2184840" y="4610520"/>
                <a:chExt cx="561240" cy="1306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84840" y="4612680"/>
                  <a:ext cx="7956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347200" y="4610520"/>
                  <a:ext cx="7992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503440" y="4612680"/>
                  <a:ext cx="7956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666160" y="4610520"/>
                  <a:ext cx="7992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2820960" y="4835520"/>
              <a:ext cx="223920" cy="351000"/>
            </a:xfrm>
            <a:prstGeom prst="flowChartCollat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116720" y="5163120"/>
              <a:ext cx="4242240" cy="349200"/>
              <a:chOff x="1116720" y="5163120"/>
              <a:chExt cx="4242240" cy="349200"/>
            </a:xfrm>
          </p:grpSpPr>
          <p:sp>
            <p:nvSpPr>
              <p:cNvPr id="149" name=""/>
              <p:cNvSpPr/>
              <p:nvPr/>
            </p:nvSpPr>
            <p:spPr>
              <a:xfrm rot="5394000">
                <a:off x="3743640" y="3886560"/>
                <a:ext cx="330840" cy="2898360"/>
              </a:xfrm>
              <a:prstGeom prst="can">
                <a:avLst>
                  <a:gd name="adj" fmla="val 517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6257000">
                <a:off x="1512000" y="4779360"/>
                <a:ext cx="330840" cy="1116720"/>
              </a:xfrm>
              <a:prstGeom prst="can">
                <a:avLst>
                  <a:gd name="adj" fmla="val 1280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08720" y="5170320"/>
                <a:ext cx="245880" cy="32940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699000" y="5170320"/>
                <a:ext cx="261360" cy="32940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3087360" y="5285520"/>
                <a:ext cx="560880" cy="130680"/>
                <a:chOff x="3087360" y="5285520"/>
                <a:chExt cx="560880" cy="1306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087360" y="5287680"/>
                  <a:ext cx="7956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49720" y="5285520"/>
                  <a:ext cx="7992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05960" y="5287680"/>
                  <a:ext cx="7956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568320" y="5285520"/>
                  <a:ext cx="7992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 rot="5568000">
                <a:off x="2251080" y="5227200"/>
                <a:ext cx="197640" cy="222840"/>
              </a:xfrm>
              <a:prstGeom prst="can">
                <a:avLst>
                  <a:gd name="adj" fmla="val 1905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4388760" y="4745520"/>
              <a:ext cx="44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Ricombinazione omologa non allel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3000" y="3446640"/>
              <a:ext cx="474840" cy="4572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70000" y="3446640"/>
              <a:ext cx="520920" cy="4572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41320" y="3489840"/>
              <a:ext cx="366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upliconi altamente omologh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6553080" y="3598920"/>
              <a:ext cx="576000" cy="151920"/>
              <a:chOff x="6553080" y="3598920"/>
              <a:chExt cx="576000" cy="151920"/>
            </a:xfrm>
          </p:grpSpPr>
          <p:sp>
            <p:nvSpPr>
              <p:cNvPr id="164" name=""/>
              <p:cNvSpPr/>
              <p:nvPr/>
            </p:nvSpPr>
            <p:spPr>
              <a:xfrm>
                <a:off x="6553080" y="3601800"/>
                <a:ext cx="81360" cy="149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719760" y="3598920"/>
                <a:ext cx="82080" cy="149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880320" y="3601800"/>
                <a:ext cx="81360" cy="149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47000" y="3598920"/>
                <a:ext cx="82080" cy="149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7225200" y="3207960"/>
              <a:ext cx="248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Regione conten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lmeno un ge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osage sensi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120" y="1143000"/>
            <a:ext cx="908496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anter syndrome type II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 1p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aucher diseas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q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m. juv. nephronophthisi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q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scioscapulohumeral muscular dystrophy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q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pinal muscular atrophy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q1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g adrenal hyperplasia (21 hydroxylase def.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6p2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lucocorticoid-remediable aldosteronism (GRA)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8q2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eta-thalassemi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p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fa-thalassemi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p1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lycystic kidney disease 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p1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harcot-Marie-Tooth (CMT1A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p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r. neur. with liability to pressure palsies (HNPP)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p1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eurofibromatosis type 1 (NFl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q1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ituitary dwarfism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q2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P2D6 pharmacogenetic trait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2q1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chthyosi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p22.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d-green color blindnes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continentia pigment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mophilia 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mery-Dreifuss musc. dystr.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Xq28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unter syndrom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aratteri mendelian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6320" y="0"/>
            <a:ext cx="9600840" cy="7301880"/>
            <a:chOff x="76320" y="0"/>
            <a:chExt cx="9600840" cy="7301880"/>
          </a:xfrm>
        </p:grpSpPr>
        <p:pic>
          <p:nvPicPr>
            <p:cNvPr id="17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9320" cy="85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68760" y="1245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8560" y="567720"/>
              <a:ext cx="8706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4470120" y="81000"/>
              <a:ext cx="5207040" cy="41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2760" y="705564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28600" y="4038480"/>
            <a:ext cx="8077320" cy="533520"/>
          </a:xfrm>
          <a:prstGeom prst="rect">
            <a:avLst/>
          </a:prstGeom>
          <a:solidFill>
            <a:srgbClr val="ff00ff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64080" y="5018040"/>
            <a:ext cx="374400" cy="1764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90760" y="5018040"/>
            <a:ext cx="279360" cy="1764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200196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MT1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65920" y="609480"/>
            <a:ext cx="2937960" cy="1066680"/>
            <a:chOff x="6865920" y="609480"/>
            <a:chExt cx="2937960" cy="1066680"/>
          </a:xfrm>
        </p:grpSpPr>
        <p:grpSp>
          <p:nvGrpSpPr>
            <p:cNvPr id="182" name=""/>
            <p:cNvGrpSpPr/>
            <p:nvPr/>
          </p:nvGrpSpPr>
          <p:grpSpPr>
            <a:xfrm>
              <a:off x="6865920" y="838080"/>
              <a:ext cx="545760" cy="761760"/>
              <a:chOff x="6865920" y="838080"/>
              <a:chExt cx="545760" cy="761760"/>
            </a:xfrm>
          </p:grpSpPr>
          <p:sp>
            <p:nvSpPr>
              <p:cNvPr id="183" name=""/>
              <p:cNvSpPr/>
              <p:nvPr/>
            </p:nvSpPr>
            <p:spPr>
              <a:xfrm>
                <a:off x="6871680" y="838080"/>
                <a:ext cx="540000" cy="320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865920" y="1279440"/>
                <a:ext cx="540000" cy="320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7488000" y="609480"/>
              <a:ext cx="152640" cy="10666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66200" y="811800"/>
              <a:ext cx="213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4 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98,7% di identit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6320" y="0"/>
            <a:ext cx="9587880" cy="7252920"/>
            <a:chOff x="76320" y="0"/>
            <a:chExt cx="9587880" cy="7252920"/>
          </a:xfrm>
        </p:grpSpPr>
        <p:pic>
          <p:nvPicPr>
            <p:cNvPr id="188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0"/>
              <a:ext cx="76824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966240" y="12384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7480" y="563760"/>
              <a:ext cx="869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4464000" y="80640"/>
              <a:ext cx="520020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3120" y="70066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180520" y="109548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,4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83440" y="2819520"/>
            <a:ext cx="45108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67000" y="2824200"/>
            <a:ext cx="374760" cy="176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35280" y="2719440"/>
            <a:ext cx="695520" cy="36828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84720" y="2824200"/>
            <a:ext cx="199080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83360" y="2719440"/>
            <a:ext cx="695160" cy="368280"/>
          </a:xfrm>
          <a:prstGeom prst="cube">
            <a:avLst>
              <a:gd name="adj" fmla="val 25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31000" y="2824200"/>
            <a:ext cx="101916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858080" y="2460600"/>
            <a:ext cx="189000" cy="917280"/>
            <a:chOff x="7858080" y="2460600"/>
            <a:chExt cx="189000" cy="917280"/>
          </a:xfrm>
        </p:grpSpPr>
        <p:sp>
          <p:nvSpPr>
            <p:cNvPr id="201" name=""/>
            <p:cNvSpPr/>
            <p:nvPr/>
          </p:nvSpPr>
          <p:spPr>
            <a:xfrm>
              <a:off x="7858080" y="2504160"/>
              <a:ext cx="9468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52040" y="2460600"/>
              <a:ext cx="9504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8037360" y="2635200"/>
            <a:ext cx="139680" cy="4366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125880" y="2475000"/>
            <a:ext cx="189000" cy="917280"/>
            <a:chOff x="3125880" y="2475000"/>
            <a:chExt cx="189000" cy="917280"/>
          </a:xfrm>
        </p:grpSpPr>
        <p:sp>
          <p:nvSpPr>
            <p:cNvPr id="205" name=""/>
            <p:cNvSpPr/>
            <p:nvPr/>
          </p:nvSpPr>
          <p:spPr>
            <a:xfrm>
              <a:off x="3125880" y="2518560"/>
              <a:ext cx="9468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19840" y="2475000"/>
              <a:ext cx="9504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894040" y="2824200"/>
            <a:ext cx="279360" cy="176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1760" y="3077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923600" y="31914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68840" y="2019240"/>
            <a:ext cx="45108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2400" y="2023920"/>
            <a:ext cx="374760" cy="1764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20680" y="1919160"/>
            <a:ext cx="695520" cy="368280"/>
          </a:xfrm>
          <a:prstGeom prst="cube">
            <a:avLst>
              <a:gd name="adj" fmla="val 25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70120" y="2023920"/>
            <a:ext cx="199080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68760" y="1919160"/>
            <a:ext cx="695160" cy="368280"/>
          </a:xfrm>
          <a:prstGeom prst="cube">
            <a:avLst>
              <a:gd name="adj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16400" y="2023920"/>
            <a:ext cx="101916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0680" y="176220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60920" y="176220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1508040"/>
            <a:ext cx="3227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43480" y="1660680"/>
            <a:ext cx="189000" cy="916920"/>
            <a:chOff x="5343480" y="1660680"/>
            <a:chExt cx="189000" cy="916920"/>
          </a:xfrm>
        </p:grpSpPr>
        <p:sp>
          <p:nvSpPr>
            <p:cNvPr id="220" name=""/>
            <p:cNvSpPr/>
            <p:nvPr/>
          </p:nvSpPr>
          <p:spPr>
            <a:xfrm>
              <a:off x="5343480" y="1704240"/>
              <a:ext cx="94680" cy="87336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37440" y="1660680"/>
              <a:ext cx="95040" cy="87336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522760" y="1835280"/>
            <a:ext cx="139680" cy="43632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11280" y="1674720"/>
            <a:ext cx="189000" cy="917280"/>
            <a:chOff x="611280" y="1674720"/>
            <a:chExt cx="189000" cy="917280"/>
          </a:xfrm>
        </p:grpSpPr>
        <p:sp>
          <p:nvSpPr>
            <p:cNvPr id="224" name=""/>
            <p:cNvSpPr/>
            <p:nvPr/>
          </p:nvSpPr>
          <p:spPr>
            <a:xfrm>
              <a:off x="611280" y="1718280"/>
              <a:ext cx="9468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5240" y="1674720"/>
              <a:ext cx="9504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79440" y="2023920"/>
            <a:ext cx="279360" cy="1764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160" y="2277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9000" y="139284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2270160"/>
            <a:ext cx="609480" cy="53352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790640" y="2079720"/>
            <a:ext cx="1790640" cy="152280"/>
            <a:chOff x="1790640" y="2079720"/>
            <a:chExt cx="1790640" cy="152280"/>
          </a:xfrm>
        </p:grpSpPr>
        <p:sp>
          <p:nvSpPr>
            <p:cNvPr id="231" name=""/>
            <p:cNvSpPr/>
            <p:nvPr/>
          </p:nvSpPr>
          <p:spPr>
            <a:xfrm>
              <a:off x="179064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8296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1308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1764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2256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5268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30800" y="2879640"/>
            <a:ext cx="1790640" cy="152280"/>
            <a:chOff x="4330800" y="2879640"/>
            <a:chExt cx="1790640" cy="152280"/>
          </a:xfrm>
        </p:grpSpPr>
        <p:sp>
          <p:nvSpPr>
            <p:cNvPr id="238" name=""/>
            <p:cNvSpPr/>
            <p:nvPr/>
          </p:nvSpPr>
          <p:spPr>
            <a:xfrm>
              <a:off x="433080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2312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5324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5780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6272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9284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973680" y="4913280"/>
            <a:ext cx="446040" cy="368280"/>
          </a:xfrm>
          <a:prstGeom prst="cube">
            <a:avLst>
              <a:gd name="adj" fmla="val 250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4911840"/>
            <a:ext cx="373320" cy="368280"/>
          </a:xfrm>
          <a:prstGeom prst="cube">
            <a:avLst>
              <a:gd name="adj" fmla="val 25000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24440" y="5013360"/>
            <a:ext cx="45108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5018040"/>
            <a:ext cx="101916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599080" y="4654440"/>
            <a:ext cx="189000" cy="917280"/>
            <a:chOff x="5599080" y="4654440"/>
            <a:chExt cx="189000" cy="917280"/>
          </a:xfrm>
        </p:grpSpPr>
        <p:sp>
          <p:nvSpPr>
            <p:cNvPr id="249" name=""/>
            <p:cNvSpPr/>
            <p:nvPr/>
          </p:nvSpPr>
          <p:spPr>
            <a:xfrm>
              <a:off x="5599080" y="4698000"/>
              <a:ext cx="9468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93040" y="4654440"/>
              <a:ext cx="9504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78360" y="4829040"/>
            <a:ext cx="139680" cy="4366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64600" y="53856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22600" y="4713120"/>
            <a:ext cx="95400" cy="873360"/>
          </a:xfrm>
          <a:custGeom>
            <a:avLst/>
            <a:gdLst/>
            <a:ahLst/>
            <a:rect l="l" t="t" r="r" b="b"/>
            <a:pathLst>
              <a:path w="97" h="480">
                <a:moveTo>
                  <a:pt x="0" y="0"/>
                </a:moveTo>
                <a:cubicBezTo>
                  <a:pt x="18" y="55"/>
                  <a:pt x="44" y="104"/>
                  <a:pt x="80" y="152"/>
                </a:cubicBezTo>
                <a:cubicBezTo>
                  <a:pt x="97" y="203"/>
                  <a:pt x="67" y="244"/>
                  <a:pt x="32" y="280"/>
                </a:cubicBezTo>
                <a:cubicBezTo>
                  <a:pt x="16" y="325"/>
                  <a:pt x="5" y="334"/>
                  <a:pt x="24" y="384"/>
                </a:cubicBezTo>
                <a:cubicBezTo>
                  <a:pt x="36" y="417"/>
                  <a:pt x="71" y="446"/>
                  <a:pt x="88" y="4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16200" y="4668840"/>
            <a:ext cx="95400" cy="873000"/>
          </a:xfrm>
          <a:custGeom>
            <a:avLst/>
            <a:gdLst/>
            <a:ahLst/>
            <a:rect l="l" t="t" r="r" b="b"/>
            <a:pathLst>
              <a:path w="97" h="480">
                <a:moveTo>
                  <a:pt x="0" y="0"/>
                </a:moveTo>
                <a:cubicBezTo>
                  <a:pt x="18" y="55"/>
                  <a:pt x="44" y="104"/>
                  <a:pt x="80" y="152"/>
                </a:cubicBezTo>
                <a:cubicBezTo>
                  <a:pt x="97" y="203"/>
                  <a:pt x="67" y="244"/>
                  <a:pt x="32" y="280"/>
                </a:cubicBezTo>
                <a:cubicBezTo>
                  <a:pt x="16" y="325"/>
                  <a:pt x="5" y="334"/>
                  <a:pt x="24" y="384"/>
                </a:cubicBezTo>
                <a:cubicBezTo>
                  <a:pt x="36" y="417"/>
                  <a:pt x="71" y="446"/>
                  <a:pt x="88" y="4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79440" y="3884760"/>
            <a:ext cx="6651720" cy="970560"/>
            <a:chOff x="379440" y="3884760"/>
            <a:chExt cx="6651720" cy="970560"/>
          </a:xfrm>
        </p:grpSpPr>
        <p:sp>
          <p:nvSpPr>
            <p:cNvPr id="256" name=""/>
            <p:cNvSpPr/>
            <p:nvPr/>
          </p:nvSpPr>
          <p:spPr>
            <a:xfrm>
              <a:off x="905040" y="4233960"/>
              <a:ext cx="374400" cy="176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73320" y="4129200"/>
              <a:ext cx="695160" cy="368280"/>
            </a:xfrm>
            <a:prstGeom prst="cube">
              <a:avLst>
                <a:gd name="adj" fmla="val 25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22400" y="4233960"/>
              <a:ext cx="1990800" cy="209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21040" y="4129200"/>
              <a:ext cx="446040" cy="368280"/>
            </a:xfrm>
            <a:prstGeom prst="cube">
              <a:avLst>
                <a:gd name="adj" fmla="val 25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73320" y="397188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13200" y="397188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763560" y="3884760"/>
              <a:ext cx="189000" cy="916920"/>
              <a:chOff x="763560" y="3884760"/>
              <a:chExt cx="189000" cy="916920"/>
            </a:xfrm>
          </p:grpSpPr>
          <p:sp>
            <p:nvSpPr>
              <p:cNvPr id="263" name=""/>
              <p:cNvSpPr/>
              <p:nvPr/>
            </p:nvSpPr>
            <p:spPr>
              <a:xfrm>
                <a:off x="763560" y="3928320"/>
                <a:ext cx="94680" cy="8733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57520" y="3884760"/>
                <a:ext cx="95040" cy="8733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531720" y="4233960"/>
              <a:ext cx="279360" cy="176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9440" y="448704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1943280" y="4289400"/>
              <a:ext cx="1790640" cy="152280"/>
              <a:chOff x="1943280" y="4289400"/>
              <a:chExt cx="1790640" cy="152280"/>
            </a:xfrm>
          </p:grpSpPr>
          <p:sp>
            <p:nvSpPr>
              <p:cNvPr id="268" name=""/>
              <p:cNvSpPr/>
              <p:nvPr/>
            </p:nvSpPr>
            <p:spPr>
              <a:xfrm>
                <a:off x="194328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3560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56572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87028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17520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50532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4114800" y="4127400"/>
              <a:ext cx="372960" cy="368280"/>
            </a:xfrm>
            <a:prstGeom prst="cube">
              <a:avLst>
                <a:gd name="adj" fmla="val 25000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4437000" y="4124160"/>
              <a:ext cx="2594160" cy="368280"/>
              <a:chOff x="4437000" y="4124160"/>
              <a:chExt cx="2594160" cy="368280"/>
            </a:xfrm>
          </p:grpSpPr>
          <p:sp>
            <p:nvSpPr>
              <p:cNvPr id="276" name=""/>
              <p:cNvSpPr/>
              <p:nvPr/>
            </p:nvSpPr>
            <p:spPr>
              <a:xfrm>
                <a:off x="4437000" y="4228920"/>
                <a:ext cx="1990800" cy="20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35640" y="4124160"/>
                <a:ext cx="695520" cy="36828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483080" y="4284720"/>
                <a:ext cx="1790640" cy="152280"/>
                <a:chOff x="4483080" y="4284720"/>
                <a:chExt cx="1790640" cy="1522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448308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77540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10552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41008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71500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04512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4065480" y="475632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1200" y="397188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8186760" y="4229280"/>
            <a:ext cx="45072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4233960"/>
            <a:ext cx="101916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961400" y="3870360"/>
            <a:ext cx="189000" cy="917280"/>
            <a:chOff x="7961400" y="3870360"/>
            <a:chExt cx="189000" cy="917280"/>
          </a:xfrm>
        </p:grpSpPr>
        <p:sp>
          <p:nvSpPr>
            <p:cNvPr id="290" name=""/>
            <p:cNvSpPr/>
            <p:nvPr/>
          </p:nvSpPr>
          <p:spPr>
            <a:xfrm>
              <a:off x="7961400" y="3913920"/>
              <a:ext cx="9468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55360" y="3870360"/>
              <a:ext cx="9504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8140680" y="4044960"/>
            <a:ext cx="139680" cy="43668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26920" y="4601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1540080"/>
            <a:ext cx="5703120" cy="5484960"/>
            <a:chOff x="762120" y="1540080"/>
            <a:chExt cx="5703120" cy="5484960"/>
          </a:xfrm>
        </p:grpSpPr>
        <p:grpSp>
          <p:nvGrpSpPr>
            <p:cNvPr id="295" name=""/>
            <p:cNvGrpSpPr/>
            <p:nvPr/>
          </p:nvGrpSpPr>
          <p:grpSpPr>
            <a:xfrm>
              <a:off x="2996280" y="1540080"/>
              <a:ext cx="3468960" cy="2898720"/>
              <a:chOff x="2996280" y="1540080"/>
              <a:chExt cx="3468960" cy="2898720"/>
            </a:xfrm>
          </p:grpSpPr>
          <p:sp>
            <p:nvSpPr>
              <p:cNvPr id="296" name=""/>
              <p:cNvSpPr/>
              <p:nvPr/>
            </p:nvSpPr>
            <p:spPr>
              <a:xfrm>
                <a:off x="3025800" y="2076480"/>
                <a:ext cx="228600" cy="152280"/>
              </a:xfrm>
              <a:prstGeom prst="irregularSeal1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3139920" y="1733040"/>
                <a:ext cx="0" cy="343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996280" y="1540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MP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592600" y="2882880"/>
                <a:ext cx="228600" cy="152280"/>
              </a:xfrm>
              <a:prstGeom prst="irregularSeal1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5707080" y="2540160"/>
                <a:ext cx="0" cy="342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563080" y="23464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MP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19680" y="4286160"/>
                <a:ext cx="228600" cy="152640"/>
              </a:xfrm>
              <a:prstGeom prst="irregularSeal1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5834160" y="3943440"/>
                <a:ext cx="0" cy="342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690160" y="375012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MP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178080" y="4286160"/>
                <a:ext cx="228600" cy="152640"/>
              </a:xfrm>
              <a:prstGeom prst="irregularSeal1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292560" y="3943440"/>
                <a:ext cx="0" cy="342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148560" y="375012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MP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762120" y="6016320"/>
              <a:ext cx="5029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50000"/>
                <a:buFont typeface="Wingdings" charset="2"/>
                <a:buChar char="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ll’interno della regione sono stati identificati almeno 6-7 geni: solo uno e’ dosage sensitiv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 rot="5361600">
            <a:off x="4457520" y="3390840"/>
            <a:ext cx="685800" cy="304560"/>
          </a:xfrm>
          <a:custGeom>
            <a:avLst/>
            <a:gdLst>
              <a:gd name="textAreaLeft" fmla="*/ 10692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8"/>
          <a:stretch/>
        </p:blipFill>
        <p:spPr>
          <a:xfrm>
            <a:off x="7010280" y="5105520"/>
            <a:ext cx="2819520" cy="2211120"/>
          </a:xfrm>
          <a:prstGeom prst="rect">
            <a:avLst/>
          </a:prstGeom>
          <a:ln w="9360">
            <a:solidFill>
              <a:srgbClr val="f3ff20"/>
            </a:solidFill>
            <a:miter/>
          </a:ln>
        </p:spPr>
      </p:pic>
      <p:sp>
        <p:nvSpPr>
          <p:cNvPr id="311" name=""/>
          <p:cNvSpPr/>
          <p:nvPr/>
        </p:nvSpPr>
        <p:spPr>
          <a:xfrm>
            <a:off x="128160" y="365616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MT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20760" y="47689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N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09120" y="1143000"/>
            <a:ext cx="908496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anter syndrome type II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1p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aucher diseas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q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m. juv. nephronophthisi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q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ascioscapulohumeral muscular dystrophy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q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pinal muscular atrophy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q1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g adrenal hyperplasia (21 hydroxylase def.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6p2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lucocorticoid-remediable aldosteronism (GRA)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8q2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eta-thalassemi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p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fa-thalassemi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p1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lycystic kidney disease 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p1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harcot-Marie-Tooth (CMT1A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p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r. neur. with liability to pressure palsies (HNPP)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p1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eurofibromatosis type 1 (NFl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q1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ituitary dwarfism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7q2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P2D6 pharmacogenetic trait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2q1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chthyosi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p22.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d-green color blindnes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continentia pigment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mophilia 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mery-Dreifuss musc. dystr.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  Xq28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unter syndrom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q28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aratteri mendelian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6320" y="0"/>
            <a:ext cx="9600840" cy="7301880"/>
            <a:chOff x="76320" y="0"/>
            <a:chExt cx="9600840" cy="7301880"/>
          </a:xfrm>
        </p:grpSpPr>
        <p:pic>
          <p:nvPicPr>
            <p:cNvPr id="31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69320" cy="85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968760" y="1245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8560" y="567720"/>
              <a:ext cx="8706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4470120" y="81000"/>
              <a:ext cx="5207040" cy="41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2760" y="705564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228600" y="1790640"/>
            <a:ext cx="8077320" cy="228600"/>
          </a:xfrm>
          <a:prstGeom prst="rect">
            <a:avLst/>
          </a:prstGeom>
          <a:solidFill>
            <a:srgbClr val="ff00ff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Mariano Rocchi</cp:lastModifiedBy>
  <cp:lastPrinted>2000-04-11T15:44:35Z</cp:lastPrinted>
  <dcterms:modified xsi:type="dcterms:W3CDTF">2004-04-26T11:15:33Z</dcterms:modified>
  <cp:revision>1020</cp:revision>
  <dc:subject/>
  <dc:title>Geen diatitel</dc:title>
</cp:coreProperties>
</file>